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568-7FC5-4480-818E-13DE61D1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887-57B5-46E5-819C-2B824AB6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194-C7A0-43DF-9C2F-2F0CC793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B1C-965F-4DF0-99A2-AD7D088B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31F-709E-44BB-ACA8-FA59B066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DC9-A410-4B7B-9423-9E890B57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33D-F536-45DF-932A-D0BFDA38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6FF-1ACC-48E8-AF62-6E15F93C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A68-F8E9-4CEC-810F-592E558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B79-EE39-4111-AE5A-83B8DDE3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950-39A7-43CC-88D8-6C76A635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9D2-23C3-4168-82B2-5C6E78F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7C4-99FC-4D75-AF2C-F7594D52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92360" y="1844640"/>
            <a:ext cx="5255640" cy="2735640"/>
            <a:chOff x="1692360" y="1844640"/>
            <a:chExt cx="5255640" cy="2735640"/>
          </a:xfrm>
        </p:grpSpPr>
        <p:grpSp>
          <p:nvGrpSpPr>
            <p:cNvPr id="42" name=""/>
            <p:cNvGrpSpPr/>
            <p:nvPr/>
          </p:nvGrpSpPr>
          <p:grpSpPr>
            <a:xfrm>
              <a:off x="1692360" y="1844640"/>
              <a:ext cx="5255640" cy="2678400"/>
              <a:chOff x="1692360" y="1844640"/>
              <a:chExt cx="5255640" cy="26784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487040" y="2325240"/>
                <a:ext cx="814320" cy="2197440"/>
                <a:chOff x="4487040" y="2325240"/>
                <a:chExt cx="814320" cy="2197440"/>
              </a:xfrm>
            </p:grpSpPr>
            <p:sp>
              <p:nvSpPr>
                <p:cNvPr id="44" name=""/>
                <p:cNvSpPr/>
                <p:nvPr/>
              </p:nvSpPr>
              <p:spPr>
                <a:xfrm flipH="1">
                  <a:off x="4487040" y="2394000"/>
                  <a:ext cx="725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flipH="1">
                  <a:off x="5123520" y="2325240"/>
                  <a:ext cx="17748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" name=""/>
              <p:cNvSpPr/>
              <p:nvPr/>
            </p:nvSpPr>
            <p:spPr>
              <a:xfrm>
                <a:off x="3348720" y="2394000"/>
                <a:ext cx="1085040" cy="212868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343680" y="2325240"/>
                <a:ext cx="138600" cy="205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4487760" y="2531520"/>
                <a:ext cx="951840" cy="1991520"/>
                <a:chOff x="4487760" y="2531520"/>
                <a:chExt cx="951840" cy="1991520"/>
              </a:xfrm>
            </p:grpSpPr>
            <p:sp>
              <p:nvSpPr>
                <p:cNvPr id="49" name=""/>
                <p:cNvSpPr/>
                <p:nvPr/>
              </p:nvSpPr>
              <p:spPr>
                <a:xfrm flipH="1">
                  <a:off x="4487400" y="2593800"/>
                  <a:ext cx="848520" cy="192924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>
                  <a:off x="5232240" y="2531520"/>
                  <a:ext cx="207360" cy="186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851640" y="2119320"/>
                <a:ext cx="581760" cy="2197440"/>
                <a:chOff x="3851640" y="2119320"/>
                <a:chExt cx="581760" cy="21974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914640" y="2188080"/>
                  <a:ext cx="518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851640" y="2119320"/>
                  <a:ext cx="12672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597480" y="2325240"/>
                <a:ext cx="1090080" cy="2197440"/>
                <a:chOff x="3597480" y="2325240"/>
                <a:chExt cx="1090080" cy="21974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3715920" y="2394000"/>
                  <a:ext cx="97164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597480" y="2325240"/>
                  <a:ext cx="23760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4402080" y="2062080"/>
                <a:ext cx="349560" cy="246060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359960" y="1982160"/>
                <a:ext cx="86040" cy="169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218120" y="2195280"/>
                <a:ext cx="395640" cy="232740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169160" y="2119320"/>
                <a:ext cx="96480" cy="137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4042440" y="2325240"/>
                <a:ext cx="581760" cy="2197440"/>
                <a:chOff x="4042440" y="2325240"/>
                <a:chExt cx="581760" cy="21974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105440" y="2394000"/>
                  <a:ext cx="518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042440" y="2325240"/>
                  <a:ext cx="12672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23680" y="2050560"/>
                <a:ext cx="454680" cy="2471760"/>
                <a:chOff x="4423680" y="2050560"/>
                <a:chExt cx="454680" cy="2471760"/>
              </a:xfrm>
            </p:grpSpPr>
            <p:sp>
              <p:nvSpPr>
                <p:cNvPr id="65" name=""/>
                <p:cNvSpPr/>
                <p:nvPr/>
              </p:nvSpPr>
              <p:spPr>
                <a:xfrm flipH="1">
                  <a:off x="4423680" y="2127600"/>
                  <a:ext cx="405360" cy="239472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4779000" y="2050560"/>
                  <a:ext cx="99000" cy="231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487040" y="2325240"/>
                <a:ext cx="581760" cy="2197440"/>
                <a:chOff x="4487040" y="2325240"/>
                <a:chExt cx="581760" cy="2197440"/>
              </a:xfrm>
            </p:grpSpPr>
            <p:sp>
              <p:nvSpPr>
                <p:cNvPr id="68" name=""/>
                <p:cNvSpPr/>
                <p:nvPr/>
              </p:nvSpPr>
              <p:spPr>
                <a:xfrm flipH="1">
                  <a:off x="4486680" y="2394000"/>
                  <a:ext cx="518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>
                  <a:off x="4942080" y="2325240"/>
                  <a:ext cx="12672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4232160" y="2050560"/>
                <a:ext cx="1079640" cy="247212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49160" y="1844640"/>
                <a:ext cx="138600" cy="205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4614120" y="2594160"/>
                <a:ext cx="848160" cy="192852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358960" y="2531520"/>
                <a:ext cx="144000" cy="274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4296960" y="2050560"/>
                <a:ext cx="454680" cy="2471760"/>
                <a:chOff x="4296960" y="2050560"/>
                <a:chExt cx="454680" cy="2471760"/>
              </a:xfrm>
            </p:grpSpPr>
            <p:sp>
              <p:nvSpPr>
                <p:cNvPr id="75" name=""/>
                <p:cNvSpPr/>
                <p:nvPr/>
              </p:nvSpPr>
              <p:spPr>
                <a:xfrm flipH="1">
                  <a:off x="4296960" y="2127600"/>
                  <a:ext cx="405360" cy="239472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>
                  <a:off x="4652280" y="2050560"/>
                  <a:ext cx="99000" cy="231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3216600" y="2394000"/>
                <a:ext cx="1132560" cy="2117160"/>
              </a:xfrm>
              <a:custGeom>
                <a:avLst/>
                <a:gdLst/>
                <a:ahLst/>
                <a:rect l="l" t="t" r="r" b="b"/>
                <a:pathLst>
                  <a:path w="856" h="1480">
                    <a:moveTo>
                      <a:pt x="832" y="1480"/>
                    </a:moveTo>
                    <a:cubicBezTo>
                      <a:pt x="844" y="1444"/>
                      <a:pt x="856" y="1408"/>
                      <a:pt x="736" y="1192"/>
                    </a:cubicBezTo>
                    <a:cubicBezTo>
                      <a:pt x="616" y="976"/>
                      <a:pt x="224" y="368"/>
                      <a:pt x="112" y="184"/>
                    </a:cubicBezTo>
                    <a:cubicBezTo>
                      <a:pt x="0" y="0"/>
                      <a:pt x="32" y="44"/>
                      <a:pt x="64" y="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53240" y="2462400"/>
                <a:ext cx="201960" cy="137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26160" y="3630240"/>
                <a:ext cx="279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026160" y="4523040"/>
                <a:ext cx="279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5757120" y="3698640"/>
                <a:ext cx="198000" cy="772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Narrow"/>
                  </a:rPr>
                  <a:t>}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  <a:ea typeface="Arial Narrow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5693760" y="2050560"/>
                <a:ext cx="261720" cy="145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Narrow"/>
                  </a:rPr>
                  <a:t>}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  <a:ea typeface="Arial Narrow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6074640" y="3973680"/>
                <a:ext cx="857520" cy="3088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Script"/>
                  </a:rPr>
                  <a:t>Physiological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Script"/>
                  <a:ea typeface="Script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6074640" y="2668680"/>
                <a:ext cx="873360" cy="3088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Script"/>
                  </a:rPr>
                  <a:t>Psychological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Script"/>
                  <a:ea typeface="Script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692360" y="2806200"/>
                <a:ext cx="1683360" cy="583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Identity/difference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Motivators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2136960" y="3767400"/>
                <a:ext cx="714240" cy="583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Hygiene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Factors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976840" y="2368800"/>
              <a:ext cx="3035520" cy="2211480"/>
              <a:chOff x="2976840" y="2368800"/>
              <a:chExt cx="3035520" cy="221148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976840" y="2368800"/>
                <a:ext cx="3035520" cy="2211480"/>
                <a:chOff x="2976840" y="2368800"/>
                <a:chExt cx="3035520" cy="221148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2976840" y="2368800"/>
                  <a:ext cx="1517400" cy="22114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494600" y="2368800"/>
                  <a:ext cx="1517400" cy="22114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977200" y="4580280"/>
                  <a:ext cx="303516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3283200" y="4120200"/>
                <a:ext cx="2424600" cy="9000"/>
              </a:xfrm>
              <a:custGeom>
                <a:avLst/>
                <a:gdLst/>
                <a:ahLst/>
                <a:rect l="l" t="t" r="r" b="b"/>
                <a:pathLst>
                  <a:path w="690" h="3">
                    <a:moveTo>
                      <a:pt x="0" y="3"/>
                    </a:moveTo>
                    <a:lnTo>
                      <a:pt x="690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78040" y="3677760"/>
                <a:ext cx="1823760" cy="9000"/>
              </a:xfrm>
              <a:custGeom>
                <a:avLst/>
                <a:gdLst/>
                <a:ahLst/>
                <a:rect l="l" t="t" r="r" b="b"/>
                <a:pathLst>
                  <a:path w="519" h="3">
                    <a:moveTo>
                      <a:pt x="0" y="0"/>
                    </a:moveTo>
                    <a:lnTo>
                      <a:pt x="519" y="3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84040" y="3253680"/>
                <a:ext cx="1211760" cy="2520"/>
              </a:xfrm>
              <a:custGeom>
                <a:avLst/>
                <a:gdLst/>
                <a:ahLst/>
                <a:rect l="l" t="t" r="r" b="b"/>
                <a:pathLst>
                  <a:path w="345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90040" y="2811240"/>
                <a:ext cx="610920" cy="2520"/>
              </a:xfrm>
              <a:custGeom>
                <a:avLst/>
                <a:gdLst/>
                <a:ahLst/>
                <a:rect l="l" t="t" r="r" b="b"/>
                <a:pathLst>
                  <a:path w="174" h="1">
                    <a:moveTo>
                      <a:pt x="0" y="0"/>
                    </a:moveTo>
                    <a:lnTo>
                      <a:pt x="174" y="1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45544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oduction to Part II Extra Fig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 posmodern reworking of Maslow’s Hierarchy: A “reeds” or differentiating framework of moti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5226120"/>
            <a:ext cx="741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er’s ‘Generic value chai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reprinted with the permission of The Free Press, A Division of Simon &amp; Shuster, Inc., from COMPETITIVE ADVANTAGE: Creating and Sustaining Superior Performance by Michael E. Porter. Copyright © 1985, 1998 by Michael E. Por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979640" y="1989000"/>
            <a:ext cx="4033800" cy="2268720"/>
          </a:xfrm>
          <a:custGeom>
            <a:avLst/>
            <a:gdLst/>
            <a:ahLst/>
            <a:rect l="l" t="t" r="r" b="b"/>
            <a:pathLst>
              <a:path w="1344" h="432">
                <a:moveTo>
                  <a:pt x="1344" y="0"/>
                </a:moveTo>
                <a:lnTo>
                  <a:pt x="0" y="0"/>
                </a:lnTo>
                <a:lnTo>
                  <a:pt x="0" y="432"/>
                </a:lnTo>
                <a:lnTo>
                  <a:pt x="1344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08760" y="1992240"/>
            <a:ext cx="625320" cy="2252880"/>
          </a:xfrm>
          <a:custGeom>
            <a:avLst/>
            <a:gdLst/>
            <a:ahLst/>
            <a:rect l="l" t="t" r="r" b="b"/>
            <a:pathLst>
              <a:path w="379" h="1314">
                <a:moveTo>
                  <a:pt x="0" y="0"/>
                </a:moveTo>
                <a:lnTo>
                  <a:pt x="379" y="692"/>
                </a:lnTo>
                <a:lnTo>
                  <a:pt x="0" y="13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45000" y="3173400"/>
            <a:ext cx="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8920" y="3173400"/>
            <a:ext cx="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33560" y="3173400"/>
            <a:ext cx="855720" cy="10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79640" y="317340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80160" y="1989000"/>
            <a:ext cx="56808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80160" y="3173400"/>
            <a:ext cx="56808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33560" y="2284560"/>
            <a:ext cx="0" cy="98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79640" y="258120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79640" y="2876400"/>
            <a:ext cx="4227480" cy="1800"/>
          </a:xfrm>
          <a:custGeom>
            <a:avLst/>
            <a:gdLst/>
            <a:ahLst/>
            <a:rect l="l" t="t" r="r" b="b"/>
            <a:pathLst>
              <a:path w="2563" h="1">
                <a:moveTo>
                  <a:pt x="0" y="0"/>
                </a:moveTo>
                <a:lnTo>
                  <a:pt x="256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89280" y="1989000"/>
            <a:ext cx="0" cy="12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8920" y="2284560"/>
            <a:ext cx="0" cy="98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45000" y="198900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11320" y="3535200"/>
            <a:ext cx="797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B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01880" y="3616200"/>
            <a:ext cx="930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73440" y="3535200"/>
            <a:ext cx="85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B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45000" y="3535200"/>
            <a:ext cx="90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amp; S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560" y="3616200"/>
            <a:ext cx="687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4005360"/>
            <a:ext cx="8985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90800" y="2300400"/>
            <a:ext cx="3940200" cy="3240"/>
          </a:xfrm>
          <a:custGeom>
            <a:avLst/>
            <a:gdLst/>
            <a:ahLst/>
            <a:rect l="l" t="t" r="r" b="b"/>
            <a:pathLst>
              <a:path w="2388" h="1">
                <a:moveTo>
                  <a:pt x="0" y="0"/>
                </a:moveTo>
                <a:lnTo>
                  <a:pt x="23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4240" y="2876400"/>
            <a:ext cx="1076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98960" y="2630520"/>
            <a:ext cx="19094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ECHNOLOGY 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0200" y="2382840"/>
            <a:ext cx="2178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UMAN RESOURCE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79680" y="2054160"/>
            <a:ext cx="15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RM 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875200" y="4060440"/>
            <a:ext cx="9396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5226120"/>
            <a:ext cx="741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er’s ‘Five forces of industr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reprinted with the permission of The Free Press, A Division of Simon &amp; Shuster, Inc., from COMPETITIVE STRATEGY: Techniques for Analyzing Industries and Competitors by Michael E. Porter. Copyright © 1980, 1998 by The Free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2195640" y="1700280"/>
            <a:ext cx="4873320" cy="2727360"/>
            <a:chOff x="2195640" y="1700280"/>
            <a:chExt cx="4873320" cy="2727360"/>
          </a:xfrm>
        </p:grpSpPr>
        <p:sp>
          <p:nvSpPr>
            <p:cNvPr id="326" name=""/>
            <p:cNvSpPr/>
            <p:nvPr/>
          </p:nvSpPr>
          <p:spPr>
            <a:xfrm>
              <a:off x="3948120" y="2462040"/>
              <a:ext cx="137124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33560" y="2462040"/>
              <a:ext cx="0" cy="1218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8120" y="3071880"/>
              <a:ext cx="13712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0920" y="30718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9720" y="30718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3560" y="2004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633560" y="3681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00600" y="291960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BARGINING POW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 BUYER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95640" y="291960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BARGINING POW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 SUPPPL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00400" y="1700280"/>
              <a:ext cx="1069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THREAT OF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EW ENTRA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95840" y="4062600"/>
              <a:ext cx="1638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THREAT OF SUBSTITU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DUCTS OR 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19320" y="2798640"/>
              <a:ext cx="14000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RIVARLY AMONG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ISTIN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PETITO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5280" y="5226120"/>
            <a:ext cx="741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er’s ‘Generic strategy matri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reprinted with the permission of The Free Press, A Division of Simon &amp; Shuster, Inc., from COMPETITIVE STRATEGY: Techniques for Analyzing Industries and Competitors by Michael E. Porter. Copyright © 1980, 1998 by The Free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2050920" y="1557360"/>
            <a:ext cx="3992400" cy="2895120"/>
            <a:chOff x="2050920" y="1557360"/>
            <a:chExt cx="3992400" cy="2895120"/>
          </a:xfrm>
        </p:grpSpPr>
        <p:grpSp>
          <p:nvGrpSpPr>
            <p:cNvPr id="342" name=""/>
            <p:cNvGrpSpPr/>
            <p:nvPr/>
          </p:nvGrpSpPr>
          <p:grpSpPr>
            <a:xfrm>
              <a:off x="3422520" y="2151360"/>
              <a:ext cx="2620800" cy="2301120"/>
              <a:chOff x="3422520" y="2151360"/>
              <a:chExt cx="2620800" cy="2301120"/>
            </a:xfrm>
          </p:grpSpPr>
          <p:sp>
            <p:nvSpPr>
              <p:cNvPr id="343" name=""/>
              <p:cNvSpPr/>
              <p:nvPr/>
            </p:nvSpPr>
            <p:spPr>
              <a:xfrm>
                <a:off x="3422520" y="2151360"/>
                <a:ext cx="2620800" cy="230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31120" y="2151360"/>
                <a:ext cx="0" cy="23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22520" y="3301920"/>
                <a:ext cx="262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879720" y="1557360"/>
              <a:ext cx="1774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MPETITIVE ADVANT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74800" y="1922760"/>
              <a:ext cx="911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OWER 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94120" y="1922760"/>
              <a:ext cx="1193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IFFERENTI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0920" y="3141720"/>
              <a:ext cx="1009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MPETI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CO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12680" y="2532240"/>
              <a:ext cx="634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RO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91000" y="3751560"/>
              <a:ext cx="8064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ARROW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RGET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70200" y="2608560"/>
              <a:ext cx="86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BROAD 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7240" y="3751560"/>
              <a:ext cx="860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OCUS 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9960" y="26085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IFFERENTI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09960" y="3751560"/>
              <a:ext cx="11620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IFFERENTI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OC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2268360" y="907920"/>
            <a:ext cx="4313520" cy="1447560"/>
            <a:chOff x="2268360" y="907920"/>
            <a:chExt cx="4313520" cy="1447560"/>
          </a:xfrm>
        </p:grpSpPr>
        <p:sp>
          <p:nvSpPr>
            <p:cNvPr id="357" name=""/>
            <p:cNvSpPr/>
            <p:nvPr/>
          </p:nvSpPr>
          <p:spPr>
            <a:xfrm>
              <a:off x="5611320" y="1993680"/>
              <a:ext cx="246240" cy="36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9800" y="1373400"/>
              <a:ext cx="1379160" cy="465480"/>
            </a:xfrm>
            <a:custGeom>
              <a:avLst/>
              <a:gdLst/>
              <a:ahLst/>
              <a:rect l="l" t="t" r="r" b="b"/>
              <a:pathLst>
                <a:path w="1344" h="432">
                  <a:moveTo>
                    <a:pt x="1344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1344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38960" y="1373400"/>
              <a:ext cx="146520" cy="465480"/>
            </a:xfrm>
            <a:custGeom>
              <a:avLst/>
              <a:gdLst/>
              <a:ahLst/>
              <a:rect l="l" t="t" r="r" b="b"/>
              <a:pathLst>
                <a:path w="143" h="432">
                  <a:moveTo>
                    <a:pt x="0" y="0"/>
                  </a:moveTo>
                  <a:lnTo>
                    <a:pt x="143" y="219"/>
                  </a:lnTo>
                  <a:lnTo>
                    <a:pt x="0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0604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9888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476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9100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5264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52640" y="1373400"/>
              <a:ext cx="246240" cy="46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68360" y="1899000"/>
              <a:ext cx="16142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core compet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01240" y="1631520"/>
              <a:ext cx="9828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3320" y="1373400"/>
              <a:ext cx="1379160" cy="464760"/>
            </a:xfrm>
            <a:custGeom>
              <a:avLst/>
              <a:gdLst/>
              <a:ahLst/>
              <a:rect l="l" t="t" r="r" b="b"/>
              <a:pathLst>
                <a:path w="1344" h="432">
                  <a:moveTo>
                    <a:pt x="1344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1344" y="43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52840" y="1373400"/>
              <a:ext cx="145800" cy="464760"/>
            </a:xfrm>
            <a:custGeom>
              <a:avLst/>
              <a:gdLst/>
              <a:ahLst/>
              <a:rect l="l" t="t" r="r" b="b"/>
              <a:pathLst>
                <a:path w="143" h="432">
                  <a:moveTo>
                    <a:pt x="0" y="0"/>
                  </a:moveTo>
                  <a:lnTo>
                    <a:pt x="143" y="219"/>
                  </a:lnTo>
                  <a:lnTo>
                    <a:pt x="0" y="43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19200" y="1373400"/>
              <a:ext cx="0" cy="46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11320" y="1373400"/>
              <a:ext cx="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1373400"/>
              <a:ext cx="0" cy="46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03440" y="1373400"/>
              <a:ext cx="0" cy="46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65440" y="1373400"/>
              <a:ext cx="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65440" y="1373400"/>
              <a:ext cx="245520" cy="464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414760" y="1631520"/>
              <a:ext cx="9828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03440" y="1993680"/>
              <a:ext cx="247680" cy="259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9200" y="1011240"/>
              <a:ext cx="246240" cy="206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73320" y="1941840"/>
              <a:ext cx="245520" cy="258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57920" y="907920"/>
              <a:ext cx="245520" cy="3099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365440" y="1063080"/>
              <a:ext cx="4921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971960" y="1217880"/>
              <a:ext cx="24552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513040" y="1113840"/>
              <a:ext cx="3448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5315760" y="1217880"/>
              <a:ext cx="1479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070240" y="1684440"/>
              <a:ext cx="295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19200" y="2046600"/>
              <a:ext cx="4921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62360" y="1838160"/>
              <a:ext cx="1965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56200" y="1217880"/>
              <a:ext cx="247680" cy="77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57920" y="2149560"/>
              <a:ext cx="24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11320" y="1631880"/>
              <a:ext cx="4921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834520" y="1182240"/>
              <a:ext cx="98280" cy="77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37600" y="1913760"/>
              <a:ext cx="184428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core compet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763640" y="3357720"/>
            <a:ext cx="5668560" cy="2011320"/>
            <a:chOff x="1763640" y="3357720"/>
            <a:chExt cx="5668560" cy="2011320"/>
          </a:xfrm>
        </p:grpSpPr>
        <p:sp>
          <p:nvSpPr>
            <p:cNvPr id="394" name=""/>
            <p:cNvSpPr/>
            <p:nvPr/>
          </p:nvSpPr>
          <p:spPr>
            <a:xfrm>
              <a:off x="3816360" y="3940560"/>
              <a:ext cx="1569960" cy="142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00440" y="3940560"/>
              <a:ext cx="0" cy="14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16360" y="4654800"/>
              <a:ext cx="15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37040" y="3902400"/>
              <a:ext cx="29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38680" y="4170960"/>
              <a:ext cx="2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6440" y="3988080"/>
              <a:ext cx="29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4960" y="4796280"/>
              <a:ext cx="2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99160" y="497736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59720" y="4497840"/>
              <a:ext cx="67680" cy="35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059720" y="4229280"/>
              <a:ext cx="549000" cy="8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97240" y="5034600"/>
              <a:ext cx="684360" cy="17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949280" y="4229280"/>
              <a:ext cx="136440" cy="89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608720" y="4139280"/>
              <a:ext cx="409320" cy="9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59720" y="4407120"/>
              <a:ext cx="821880" cy="71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263840" y="4138920"/>
              <a:ext cx="754200" cy="80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08720" y="4229280"/>
              <a:ext cx="272880" cy="90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263480" y="4318200"/>
              <a:ext cx="274680" cy="62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16360" y="3940560"/>
              <a:ext cx="156996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08760" y="3464280"/>
              <a:ext cx="728280" cy="4158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0"/>
                  </a:moveTo>
                  <a:lnTo>
                    <a:pt x="288" y="336"/>
                  </a:lnTo>
                  <a:lnTo>
                    <a:pt x="624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23600" y="4363200"/>
              <a:ext cx="999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web of alli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89360" y="3432600"/>
              <a:ext cx="1755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threat of entra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37600" y="3357720"/>
              <a:ext cx="176184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increased barrier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to e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26320" y="3723120"/>
              <a:ext cx="4568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8000" y="41803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38000" y="42717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38000" y="43632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38000" y="51861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38000" y="50032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95200" y="4180320"/>
              <a:ext cx="91080" cy="1005480"/>
            </a:xfrm>
            <a:custGeom>
              <a:avLst/>
              <a:gdLst/>
              <a:ahLst/>
              <a:rect l="l" t="t" r="r" b="b"/>
              <a:pathLst>
                <a:path w="144" h="1584">
                  <a:moveTo>
                    <a:pt x="0" y="0"/>
                  </a:moveTo>
                  <a:lnTo>
                    <a:pt x="144" y="0"/>
                  </a:lnTo>
                  <a:lnTo>
                    <a:pt x="144" y="1584"/>
                  </a:lnTo>
                  <a:lnTo>
                    <a:pt x="0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95200" y="4271760"/>
              <a:ext cx="173700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uyers connected to alliance = higher switching cos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3225960" y="4363200"/>
              <a:ext cx="63972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3225960" y="4728600"/>
              <a:ext cx="73116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63640" y="4363200"/>
              <a:ext cx="176184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greater pow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over supplier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5727600"/>
            <a:ext cx="7416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age 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8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900000" y="1125360"/>
            <a:ext cx="3807000" cy="1428840"/>
            <a:chOff x="900000" y="1125360"/>
            <a:chExt cx="3807000" cy="1428840"/>
          </a:xfrm>
        </p:grpSpPr>
        <p:sp>
          <p:nvSpPr>
            <p:cNvPr id="431" name=""/>
            <p:cNvSpPr/>
            <p:nvPr/>
          </p:nvSpPr>
          <p:spPr>
            <a:xfrm>
              <a:off x="1842120" y="1125360"/>
              <a:ext cx="1569960" cy="142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6200" y="1125360"/>
              <a:ext cx="0" cy="14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42120" y="1839600"/>
              <a:ext cx="15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08800" y="20397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42120" y="20397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99320" y="1399680"/>
              <a:ext cx="628560" cy="819720"/>
            </a:xfrm>
            <a:custGeom>
              <a:avLst/>
              <a:gdLst/>
              <a:ahLst/>
              <a:rect l="l" t="t" r="r" b="b"/>
              <a:pathLst>
                <a:path w="381" h="463">
                  <a:moveTo>
                    <a:pt x="381" y="463"/>
                  </a:moveTo>
                  <a:cubicBezTo>
                    <a:pt x="350" y="447"/>
                    <a:pt x="260" y="447"/>
                    <a:pt x="197" y="370"/>
                  </a:cubicBezTo>
                  <a:cubicBezTo>
                    <a:pt x="134" y="293"/>
                    <a:pt x="41" y="7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70720" y="1402200"/>
              <a:ext cx="172440" cy="790200"/>
            </a:xfrm>
            <a:custGeom>
              <a:avLst/>
              <a:gdLst/>
              <a:ahLst/>
              <a:rect l="l" t="t" r="r" b="b"/>
              <a:pathLst>
                <a:path w="272" h="1244">
                  <a:moveTo>
                    <a:pt x="0" y="1244"/>
                  </a:moveTo>
                  <a:cubicBezTo>
                    <a:pt x="64" y="1225"/>
                    <a:pt x="136" y="1215"/>
                    <a:pt x="181" y="1008"/>
                  </a:cubicBezTo>
                  <a:cubicBezTo>
                    <a:pt x="226" y="801"/>
                    <a:pt x="253" y="210"/>
                    <a:pt x="2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19160" y="2039760"/>
              <a:ext cx="91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low-co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prod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39400" y="2039760"/>
              <a:ext cx="17676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exclusive desig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00000" y="1308240"/>
              <a:ext cx="10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road marke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dom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25000" y="1125360"/>
              <a:ext cx="5482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82200" y="130824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73640" y="1308240"/>
              <a:ext cx="1614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47960" y="1308240"/>
              <a:ext cx="1493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39400" y="1308240"/>
              <a:ext cx="1554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22280" y="1308240"/>
              <a:ext cx="152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724360" y="1125360"/>
            <a:ext cx="1646280" cy="1428480"/>
            <a:chOff x="5724360" y="1125360"/>
            <a:chExt cx="1646280" cy="1428480"/>
          </a:xfrm>
        </p:grpSpPr>
        <p:grpSp>
          <p:nvGrpSpPr>
            <p:cNvPr id="448" name=""/>
            <p:cNvGrpSpPr/>
            <p:nvPr/>
          </p:nvGrpSpPr>
          <p:grpSpPr>
            <a:xfrm>
              <a:off x="5724360" y="1125360"/>
              <a:ext cx="1570320" cy="1428480"/>
              <a:chOff x="5724360" y="1125360"/>
              <a:chExt cx="1570320" cy="1428480"/>
            </a:xfrm>
          </p:grpSpPr>
          <p:sp>
            <p:nvSpPr>
              <p:cNvPr id="449" name=""/>
              <p:cNvSpPr/>
              <p:nvPr/>
            </p:nvSpPr>
            <p:spPr>
              <a:xfrm>
                <a:off x="5724360" y="1125360"/>
                <a:ext cx="1570320" cy="142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508440" y="1125360"/>
                <a:ext cx="0" cy="14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24360" y="1839600"/>
                <a:ext cx="157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6742440" y="2116080"/>
              <a:ext cx="6282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Jagu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6640" y="1353960"/>
              <a:ext cx="47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F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38760" y="1353960"/>
              <a:ext cx="56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Vol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3840" y="1887480"/>
              <a:ext cx="82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Impact"/>
                </a:rPr>
                <a:t>Landr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57880" y="1506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638400" y="158256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15080" y="211608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81560" y="1582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71960" y="1582560"/>
              <a:ext cx="919080" cy="692280"/>
            </a:xfrm>
            <a:custGeom>
              <a:avLst/>
              <a:gdLst/>
              <a:ahLst/>
              <a:rect l="l" t="t" r="r" b="b"/>
              <a:pathLst>
                <a:path w="1447" h="1090">
                  <a:moveTo>
                    <a:pt x="343" y="0"/>
                  </a:moveTo>
                  <a:cubicBezTo>
                    <a:pt x="312" y="74"/>
                    <a:pt x="176" y="280"/>
                    <a:pt x="155" y="444"/>
                  </a:cubicBezTo>
                  <a:cubicBezTo>
                    <a:pt x="134" y="608"/>
                    <a:pt x="0" y="878"/>
                    <a:pt x="215" y="984"/>
                  </a:cubicBezTo>
                  <a:cubicBezTo>
                    <a:pt x="430" y="1090"/>
                    <a:pt x="1190" y="1060"/>
                    <a:pt x="1447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88760" y="1572840"/>
              <a:ext cx="96480" cy="649440"/>
            </a:xfrm>
            <a:custGeom>
              <a:avLst/>
              <a:gdLst/>
              <a:ahLst/>
              <a:rect l="l" t="t" r="r" b="b"/>
              <a:pathLst>
                <a:path w="56" h="390">
                  <a:moveTo>
                    <a:pt x="12" y="0"/>
                  </a:moveTo>
                  <a:cubicBezTo>
                    <a:pt x="20" y="9"/>
                    <a:pt x="42" y="13"/>
                    <a:pt x="48" y="54"/>
                  </a:cubicBezTo>
                  <a:cubicBezTo>
                    <a:pt x="54" y="95"/>
                    <a:pt x="56" y="190"/>
                    <a:pt x="48" y="246"/>
                  </a:cubicBezTo>
                  <a:cubicBezTo>
                    <a:pt x="40" y="302"/>
                    <a:pt x="20" y="346"/>
                    <a:pt x="0" y="3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24360" y="2085480"/>
              <a:ext cx="6282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Maz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700360" y="3429000"/>
            <a:ext cx="3749400" cy="1189080"/>
            <a:chOff x="2700360" y="3429000"/>
            <a:chExt cx="3749400" cy="1189080"/>
          </a:xfrm>
        </p:grpSpPr>
        <p:grpSp>
          <p:nvGrpSpPr>
            <p:cNvPr id="464" name=""/>
            <p:cNvGrpSpPr/>
            <p:nvPr/>
          </p:nvGrpSpPr>
          <p:grpSpPr>
            <a:xfrm>
              <a:off x="2791800" y="3429000"/>
              <a:ext cx="1188720" cy="1189080"/>
              <a:chOff x="2791800" y="3429000"/>
              <a:chExt cx="1188720" cy="1189080"/>
            </a:xfrm>
          </p:grpSpPr>
          <p:sp>
            <p:nvSpPr>
              <p:cNvPr id="465" name=""/>
              <p:cNvSpPr/>
              <p:nvPr/>
            </p:nvSpPr>
            <p:spPr>
              <a:xfrm>
                <a:off x="2791800" y="3429000"/>
                <a:ext cx="1188720" cy="118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385440" y="3429000"/>
                <a:ext cx="0" cy="11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91800" y="4023360"/>
                <a:ext cx="11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986720" y="3429000"/>
              <a:ext cx="1188720" cy="1189080"/>
              <a:chOff x="4986720" y="3429000"/>
              <a:chExt cx="1188720" cy="1189080"/>
            </a:xfrm>
          </p:grpSpPr>
          <p:sp>
            <p:nvSpPr>
              <p:cNvPr id="469" name=""/>
              <p:cNvSpPr/>
              <p:nvPr/>
            </p:nvSpPr>
            <p:spPr>
              <a:xfrm>
                <a:off x="4986720" y="3429000"/>
                <a:ext cx="1188720" cy="118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80360" y="3429000"/>
                <a:ext cx="0" cy="11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86720" y="4023360"/>
                <a:ext cx="11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flipV="1">
              <a:off x="3066120" y="3703320"/>
              <a:ext cx="640080" cy="64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14760" y="3520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00360" y="42523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43920" y="3520440"/>
              <a:ext cx="9144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M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20800" y="3794760"/>
              <a:ext cx="613440" cy="619920"/>
            </a:xfrm>
            <a:custGeom>
              <a:avLst/>
              <a:gdLst/>
              <a:ahLst/>
              <a:rect l="l" t="t" r="r" b="b"/>
              <a:pathLst>
                <a:path w="966" h="976">
                  <a:moveTo>
                    <a:pt x="626" y="0"/>
                  </a:moveTo>
                  <a:cubicBezTo>
                    <a:pt x="586" y="29"/>
                    <a:pt x="476" y="70"/>
                    <a:pt x="386" y="172"/>
                  </a:cubicBezTo>
                  <a:cubicBezTo>
                    <a:pt x="296" y="274"/>
                    <a:pt x="142" y="497"/>
                    <a:pt x="86" y="612"/>
                  </a:cubicBezTo>
                  <a:cubicBezTo>
                    <a:pt x="30" y="727"/>
                    <a:pt x="0" y="807"/>
                    <a:pt x="50" y="864"/>
                  </a:cubicBezTo>
                  <a:cubicBezTo>
                    <a:pt x="100" y="921"/>
                    <a:pt x="290" y="976"/>
                    <a:pt x="386" y="952"/>
                  </a:cubicBezTo>
                  <a:cubicBezTo>
                    <a:pt x="482" y="928"/>
                    <a:pt x="529" y="877"/>
                    <a:pt x="626" y="720"/>
                  </a:cubicBezTo>
                  <a:cubicBezTo>
                    <a:pt x="723" y="563"/>
                    <a:pt x="895" y="159"/>
                    <a:pt x="966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8160" y="4069080"/>
              <a:ext cx="9144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R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40440" y="3886200"/>
              <a:ext cx="9144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35360" y="3794760"/>
              <a:ext cx="9144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R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ages 246 and 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5280" y="5362200"/>
            <a:ext cx="741672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more representative or all-encompassing strategy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igure titled ‘Tree of Strategic Management’, from ‘Implanting Strategic Management’ (1984), Pearson Education, Inc., Upper Saddle River, NJ. By Ansoff, H.I., 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1835280" y="404640"/>
            <a:ext cx="5303880" cy="4555800"/>
            <a:chOff x="1835280" y="404640"/>
            <a:chExt cx="5303880" cy="4555800"/>
          </a:xfrm>
        </p:grpSpPr>
        <p:sp>
          <p:nvSpPr>
            <p:cNvPr id="487" name=""/>
            <p:cNvSpPr/>
            <p:nvPr/>
          </p:nvSpPr>
          <p:spPr>
            <a:xfrm>
              <a:off x="5676120" y="2675160"/>
              <a:ext cx="14630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ategic plan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1, 2.3.8, 2.3.9, 2.4, 2.5, 2.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38400" y="404640"/>
              <a:ext cx="10058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vironment  (1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38400" y="770040"/>
              <a:ext cx="10058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igger (5.1, 5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55520" y="1044360"/>
              <a:ext cx="128016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ponse managed? (7.2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01040" y="1227240"/>
              <a:ext cx="128016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ganic adaptation (7.2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95600" y="58716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95600" y="9529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389760" y="1226520"/>
              <a:ext cx="36576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89760" y="104436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95600" y="12272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46960" y="1501560"/>
              <a:ext cx="118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n or act? (7.2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7040" y="131868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95600" y="16844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932560" y="1683720"/>
              <a:ext cx="10972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52800" y="1683720"/>
              <a:ext cx="10972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81200" y="150156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10360" y="1501560"/>
              <a:ext cx="36576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87040" y="168444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o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55520" y="1958760"/>
              <a:ext cx="12801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ategic lear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3.11, 2.6.8, 5.5.4, 7.2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18920" y="1867320"/>
              <a:ext cx="1371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sition or issues? (7.2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01040" y="1867320"/>
              <a:ext cx="14630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ad hoc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or systematic? (7.2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41880" y="2035080"/>
              <a:ext cx="27432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578480" y="2035080"/>
              <a:ext cx="14630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33320" y="2309400"/>
              <a:ext cx="54864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5600" y="24008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ssu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8480" y="2583720"/>
              <a:ext cx="18288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487040" y="2583720"/>
              <a:ext cx="9144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4304160" y="2583720"/>
              <a:ext cx="2743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99080" y="2492280"/>
              <a:ext cx="1828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584680" y="2492280"/>
              <a:ext cx="9144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69920" y="2675160"/>
              <a:ext cx="10972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apability plan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2, 3.3, 3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9908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13332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7640" y="3132360"/>
              <a:ext cx="731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eti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s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2, 5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9000" y="313236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rtfol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10360" y="2949480"/>
              <a:ext cx="1463040" cy="10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10360" y="2949480"/>
              <a:ext cx="8229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10360" y="2949480"/>
              <a:ext cx="64008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10360" y="2949480"/>
              <a:ext cx="182880" cy="11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35280" y="2217960"/>
              <a:ext cx="10058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oc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7.2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680" y="2035080"/>
              <a:ext cx="5486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2383920" y="20350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15440" y="2217960"/>
              <a:ext cx="6400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ystema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89760" y="2400840"/>
              <a:ext cx="9144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2383920" y="2400840"/>
              <a:ext cx="100584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26720" y="2675160"/>
              <a:ext cx="822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hich mode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5, 5.5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15440" y="2675160"/>
              <a:ext cx="822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hich process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1, 6.2, 6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8392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83920" y="2949480"/>
              <a:ext cx="27432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292480" y="2949480"/>
              <a:ext cx="9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01816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58240" y="3132360"/>
              <a:ext cx="6400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ne ste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2.1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72640" y="2949480"/>
              <a:ext cx="548640" cy="10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481200" y="2949480"/>
              <a:ext cx="9144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24000" y="2949480"/>
              <a:ext cx="548640" cy="1554120"/>
            </a:xfrm>
            <a:custGeom>
              <a:avLst/>
              <a:gdLst/>
              <a:ahLst/>
              <a:rect l="l" t="t" r="r" b="b"/>
              <a:pathLst>
                <a:path w="576" h="2016">
                  <a:moveTo>
                    <a:pt x="576" y="0"/>
                  </a:moveTo>
                  <a:lnTo>
                    <a:pt x="0" y="1296"/>
                  </a:lnTo>
                  <a:lnTo>
                    <a:pt x="0" y="20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06880" y="3680640"/>
              <a:ext cx="731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iscontin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01040" y="3954960"/>
              <a:ext cx="822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ogress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mi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3.11, 2.6.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58240" y="4503600"/>
              <a:ext cx="9144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ercive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55520" y="4046400"/>
              <a:ext cx="10058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titutiona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35280" y="3589200"/>
              <a:ext cx="640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ni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2, 5.2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35280" y="3132360"/>
              <a:ext cx="457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i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12720" y="3406320"/>
              <a:ext cx="4572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46960" y="2949480"/>
              <a:ext cx="5486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o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78480" y="3589200"/>
              <a:ext cx="731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i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paredn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1.2.7, 5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52800" y="4137840"/>
              <a:ext cx="10058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67560" y="422928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50440" y="386352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90520" y="404640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04160" y="4595040"/>
              <a:ext cx="1828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lture/mentality/pow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1, 5.1, 5.2.3, 5.2.4, 5.2.5, 6.1, 6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5270400"/>
            <a:ext cx="74167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6.7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r. Beck’s ‘Postmodern’ map and the more geographically representative map that it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Left – Underground Map of London c. 1920’s; Right – Harry Beck’s 1933 Underground Map of London. Both maps reproduced with the kind permission of The London Transport Muse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960720" cy="31064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42480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763640" y="1773360"/>
            <a:ext cx="1513080" cy="19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Established production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Low de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lever 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Uniqu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Good rep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Established links with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48200" y="2514600"/>
            <a:ext cx="101592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ablished production si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66000" y="2062080"/>
            <a:ext cx="61092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w deb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36920" y="1836720"/>
            <a:ext cx="7128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ever employe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32360" y="2739960"/>
            <a:ext cx="60948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ique produ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66000" y="3192480"/>
            <a:ext cx="7128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od repu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43360" y="3305160"/>
            <a:ext cx="81432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ablished links with suppli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824440" y="2647800"/>
            <a:ext cx="401760" cy="657360"/>
          </a:xfrm>
          <a:custGeom>
            <a:avLst/>
            <a:gdLst/>
            <a:ahLst/>
            <a:rect l="l" t="t" r="r" b="b"/>
            <a:pathLst>
              <a:path w="567" h="838">
                <a:moveTo>
                  <a:pt x="0" y="130"/>
                </a:moveTo>
                <a:cubicBezTo>
                  <a:pt x="78" y="128"/>
                  <a:pt x="405" y="0"/>
                  <a:pt x="486" y="118"/>
                </a:cubicBezTo>
                <a:cubicBezTo>
                  <a:pt x="567" y="236"/>
                  <a:pt x="486" y="718"/>
                  <a:pt x="486" y="8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456160" y="2967120"/>
            <a:ext cx="712800" cy="677880"/>
          </a:xfrm>
          <a:custGeom>
            <a:avLst/>
            <a:gdLst/>
            <a:ahLst/>
            <a:rect l="l" t="t" r="r" b="b"/>
            <a:pathLst>
              <a:path w="1032" h="1224">
                <a:moveTo>
                  <a:pt x="1032" y="792"/>
                </a:moveTo>
                <a:cubicBezTo>
                  <a:pt x="684" y="396"/>
                  <a:pt x="336" y="0"/>
                  <a:pt x="168" y="72"/>
                </a:cubicBezTo>
                <a:cubicBezTo>
                  <a:pt x="0" y="144"/>
                  <a:pt x="48" y="1032"/>
                  <a:pt x="24" y="1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56160" y="3137040"/>
            <a:ext cx="712800" cy="507960"/>
          </a:xfrm>
          <a:custGeom>
            <a:avLst/>
            <a:gdLst/>
            <a:ahLst/>
            <a:rect l="l" t="t" r="r" b="b"/>
            <a:pathLst>
              <a:path w="1008" h="648">
                <a:moveTo>
                  <a:pt x="0" y="648"/>
                </a:moveTo>
                <a:cubicBezTo>
                  <a:pt x="204" y="396"/>
                  <a:pt x="408" y="144"/>
                  <a:pt x="576" y="72"/>
                </a:cubicBezTo>
                <a:cubicBezTo>
                  <a:pt x="744" y="0"/>
                  <a:pt x="876" y="108"/>
                  <a:pt x="100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6000" y="1685880"/>
            <a:ext cx="576360" cy="1077840"/>
          </a:xfrm>
          <a:custGeom>
            <a:avLst/>
            <a:gdLst/>
            <a:ahLst/>
            <a:rect l="l" t="t" r="r" b="b"/>
            <a:pathLst>
              <a:path w="815" h="1373">
                <a:moveTo>
                  <a:pt x="26" y="1341"/>
                </a:moveTo>
                <a:cubicBezTo>
                  <a:pt x="21" y="1319"/>
                  <a:pt x="0" y="1373"/>
                  <a:pt x="11" y="1206"/>
                </a:cubicBezTo>
                <a:cubicBezTo>
                  <a:pt x="22" y="1039"/>
                  <a:pt x="33" y="529"/>
                  <a:pt x="95" y="336"/>
                </a:cubicBezTo>
                <a:cubicBezTo>
                  <a:pt x="157" y="143"/>
                  <a:pt x="263" y="0"/>
                  <a:pt x="383" y="48"/>
                </a:cubicBezTo>
                <a:cubicBezTo>
                  <a:pt x="503" y="96"/>
                  <a:pt x="743" y="528"/>
                  <a:pt x="815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48200" y="1703520"/>
            <a:ext cx="1424160" cy="471240"/>
          </a:xfrm>
          <a:custGeom>
            <a:avLst/>
            <a:gdLst/>
            <a:ahLst/>
            <a:rect l="l" t="t" r="r" b="b"/>
            <a:pathLst>
              <a:path w="2016" h="600">
                <a:moveTo>
                  <a:pt x="0" y="456"/>
                </a:moveTo>
                <a:cubicBezTo>
                  <a:pt x="120" y="228"/>
                  <a:pt x="240" y="0"/>
                  <a:pt x="576" y="24"/>
                </a:cubicBezTo>
                <a:cubicBezTo>
                  <a:pt x="912" y="48"/>
                  <a:pt x="1464" y="324"/>
                  <a:pt x="2016" y="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133880" y="1817640"/>
            <a:ext cx="304920" cy="1036800"/>
          </a:xfrm>
          <a:custGeom>
            <a:avLst/>
            <a:gdLst/>
            <a:ahLst/>
            <a:rect l="l" t="t" r="r" b="b"/>
            <a:pathLst>
              <a:path w="432" h="1320">
                <a:moveTo>
                  <a:pt x="432" y="312"/>
                </a:moveTo>
                <a:cubicBezTo>
                  <a:pt x="324" y="156"/>
                  <a:pt x="216" y="0"/>
                  <a:pt x="144" y="168"/>
                </a:cubicBezTo>
                <a:cubicBezTo>
                  <a:pt x="72" y="336"/>
                  <a:pt x="36" y="828"/>
                  <a:pt x="0" y="1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3880" y="2287440"/>
            <a:ext cx="711000" cy="1244880"/>
          </a:xfrm>
          <a:custGeom>
            <a:avLst/>
            <a:gdLst/>
            <a:ahLst/>
            <a:rect l="l" t="t" r="r" b="b"/>
            <a:pathLst>
              <a:path w="1008" h="1584">
                <a:moveTo>
                  <a:pt x="1008" y="1584"/>
                </a:moveTo>
                <a:cubicBezTo>
                  <a:pt x="948" y="936"/>
                  <a:pt x="888" y="288"/>
                  <a:pt x="720" y="144"/>
                </a:cubicBezTo>
                <a:cubicBezTo>
                  <a:pt x="552" y="0"/>
                  <a:pt x="276" y="360"/>
                  <a:pt x="0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33880" y="2330280"/>
            <a:ext cx="1017720" cy="524160"/>
          </a:xfrm>
          <a:custGeom>
            <a:avLst/>
            <a:gdLst/>
            <a:ahLst/>
            <a:rect l="l" t="t" r="r" b="b"/>
            <a:pathLst>
              <a:path w="1440" h="666">
                <a:moveTo>
                  <a:pt x="1440" y="522"/>
                </a:moveTo>
                <a:cubicBezTo>
                  <a:pt x="1269" y="439"/>
                  <a:pt x="654" y="0"/>
                  <a:pt x="414" y="24"/>
                </a:cubicBezTo>
                <a:cubicBezTo>
                  <a:pt x="174" y="48"/>
                  <a:pt x="86" y="532"/>
                  <a:pt x="0" y="6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48200" y="1628640"/>
            <a:ext cx="1728720" cy="1676520"/>
          </a:xfrm>
          <a:custGeom>
            <a:avLst/>
            <a:gdLst/>
            <a:ahLst/>
            <a:rect l="l" t="t" r="r" b="b"/>
            <a:pathLst>
              <a:path w="2448" h="2136">
                <a:moveTo>
                  <a:pt x="0" y="552"/>
                </a:moveTo>
                <a:cubicBezTo>
                  <a:pt x="84" y="276"/>
                  <a:pt x="168" y="0"/>
                  <a:pt x="576" y="264"/>
                </a:cubicBezTo>
                <a:cubicBezTo>
                  <a:pt x="984" y="528"/>
                  <a:pt x="1716" y="1332"/>
                  <a:pt x="2448" y="2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44880" y="1703520"/>
            <a:ext cx="322560" cy="1828800"/>
          </a:xfrm>
          <a:custGeom>
            <a:avLst/>
            <a:gdLst/>
            <a:ahLst/>
            <a:rect l="l" t="t" r="r" b="b"/>
            <a:pathLst>
              <a:path w="456" h="2328">
                <a:moveTo>
                  <a:pt x="144" y="456"/>
                </a:moveTo>
                <a:cubicBezTo>
                  <a:pt x="300" y="228"/>
                  <a:pt x="456" y="0"/>
                  <a:pt x="432" y="312"/>
                </a:cubicBezTo>
                <a:cubicBezTo>
                  <a:pt x="408" y="624"/>
                  <a:pt x="204" y="1476"/>
                  <a:pt x="0" y="23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96920" y="3967200"/>
            <a:ext cx="111924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nventional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48200" y="3967200"/>
            <a:ext cx="111780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BV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ource Based View of the Firm – A list of attributes contrasted with a system of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796000" y="724320"/>
            <a:ext cx="302400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1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put→process →output visions of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Top – D. Nadler and M. Tushman’s Congruence Model from ‘Organizational Development’ (1980), reproduced with the permission of Oxford University Press, Inc. © 1997; Bottom – R. Beck’s Bank of America Change Model from ‘Change Agenda Model for Bank of America’,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Academy of Management Execu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vol. 1, 1987), reproduced with the permiss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Academy of Management Executiv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684360" y="692280"/>
            <a:ext cx="4481280" cy="2595240"/>
            <a:chOff x="684360" y="692280"/>
            <a:chExt cx="4481280" cy="2595240"/>
          </a:xfrm>
        </p:grpSpPr>
        <p:sp>
          <p:nvSpPr>
            <p:cNvPr id="587" name=""/>
            <p:cNvSpPr/>
            <p:nvPr/>
          </p:nvSpPr>
          <p:spPr>
            <a:xfrm>
              <a:off x="2055960" y="1092600"/>
              <a:ext cx="1829160" cy="1645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34120" y="1550520"/>
              <a:ext cx="7315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dividu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4360" y="1550520"/>
              <a:ext cx="7315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15880" y="1682640"/>
              <a:ext cx="640080" cy="507960"/>
            </a:xfrm>
            <a:prstGeom prst="rightArrow">
              <a:avLst>
                <a:gd name="adj1" fmla="val 50000"/>
                <a:gd name="adj2" fmla="val 315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75800" y="1225440"/>
              <a:ext cx="6400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04960" y="228204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dividu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04960" y="118476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form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55960" y="173340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53600" y="173340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Formal or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arrang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25560" y="1225440"/>
              <a:ext cx="6400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47400" y="692280"/>
              <a:ext cx="17377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ransformation 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85120" y="1682640"/>
              <a:ext cx="548640" cy="507960"/>
            </a:xfrm>
            <a:prstGeom prst="rightArrow">
              <a:avLst>
                <a:gd name="adj1" fmla="val 50000"/>
                <a:gd name="adj2" fmla="val 270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93680" y="2373480"/>
              <a:ext cx="822960" cy="273960"/>
            </a:xfrm>
            <a:custGeom>
              <a:avLst/>
              <a:gdLst/>
              <a:ahLst/>
              <a:rect l="l" t="t" r="r" b="b"/>
              <a:pathLst>
                <a:path w="1296" h="576">
                  <a:moveTo>
                    <a:pt x="1296" y="0"/>
                  </a:moveTo>
                  <a:lnTo>
                    <a:pt x="1296" y="576"/>
                  </a:ln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24440" y="2373480"/>
              <a:ext cx="822960" cy="273960"/>
            </a:xfrm>
            <a:custGeom>
              <a:avLst/>
              <a:gdLst/>
              <a:ahLst/>
              <a:rect l="l" t="t" r="r" b="b"/>
              <a:pathLst>
                <a:path w="1296" h="576">
                  <a:moveTo>
                    <a:pt x="1296" y="0"/>
                  </a:moveTo>
                  <a:lnTo>
                    <a:pt x="1296" y="576"/>
                  </a:ln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67240" y="2373480"/>
              <a:ext cx="4115520" cy="548280"/>
            </a:xfrm>
            <a:custGeom>
              <a:avLst/>
              <a:gdLst/>
              <a:ahLst/>
              <a:rect l="l" t="t" r="r" b="b"/>
              <a:pathLst>
                <a:path w="1296" h="576">
                  <a:moveTo>
                    <a:pt x="1296" y="0"/>
                  </a:moveTo>
                  <a:lnTo>
                    <a:pt x="1296" y="576"/>
                  </a:ln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70720" y="15505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87840" y="19162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38840" y="209916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238840" y="136728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336480" y="209880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36480" y="136764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04960" y="3013560"/>
              <a:ext cx="7315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195640" y="4149720"/>
            <a:ext cx="219384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27520" y="5429160"/>
            <a:ext cx="730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27520" y="4332240"/>
            <a:ext cx="730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7816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56724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92560" y="469728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17880" y="506412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60680" y="5246640"/>
            <a:ext cx="366840" cy="3650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560680" y="4514400"/>
            <a:ext cx="36684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657600" y="5246640"/>
            <a:ext cx="366840" cy="3650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657600" y="4514760"/>
            <a:ext cx="36684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0" y="4881600"/>
            <a:ext cx="731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6376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936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89080" y="50641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103480" y="50641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206960" y="50641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78160" y="3875040"/>
            <a:ext cx="1828800" cy="182520"/>
          </a:xfrm>
          <a:custGeom>
            <a:avLst/>
            <a:gdLst/>
            <a:ahLst/>
            <a:rect l="l" t="t" r="r" b="b"/>
            <a:pathLst>
              <a:path w="2880" h="288">
                <a:moveTo>
                  <a:pt x="0" y="288"/>
                </a:moveTo>
                <a:lnTo>
                  <a:pt x="0" y="144"/>
                </a:lnTo>
                <a:lnTo>
                  <a:pt x="1296" y="144"/>
                </a:lnTo>
                <a:lnTo>
                  <a:pt x="1440" y="0"/>
                </a:lnTo>
                <a:lnTo>
                  <a:pt x="1584" y="144"/>
                </a:lnTo>
                <a:lnTo>
                  <a:pt x="2880" y="144"/>
                </a:lnTo>
                <a:lnTo>
                  <a:pt x="2880" y="2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652840" y="3579840"/>
            <a:ext cx="1279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5280" y="5316480"/>
            <a:ext cx="7416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2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Kotter’s change managemen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‘Why Transformation Efforts Fail’, J.P. Kotter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arvard Business Revi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rch-April, 1995). Reproduced with the Permission of The Harvard Business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631" name=""/>
          <p:cNvGrpSpPr/>
          <p:nvPr/>
        </p:nvGrpSpPr>
        <p:grpSpPr>
          <a:xfrm>
            <a:off x="2916360" y="907920"/>
            <a:ext cx="3382560" cy="4084560"/>
            <a:chOff x="2916360" y="907920"/>
            <a:chExt cx="3382560" cy="4084560"/>
          </a:xfrm>
        </p:grpSpPr>
        <p:sp>
          <p:nvSpPr>
            <p:cNvPr id="632" name=""/>
            <p:cNvSpPr/>
            <p:nvPr/>
          </p:nvSpPr>
          <p:spPr>
            <a:xfrm>
              <a:off x="2916360" y="150372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orming a Powerful Guiding Coali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16360" y="99288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tablishing a Sense of Urgenc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16360" y="201420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eating a Vis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16360" y="252468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municating the Vis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16360" y="303552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owering Others to Act on the Vis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6360" y="354600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lanning for and Creating Short-Term Win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16360" y="405648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solidating Improvements and Producing Still More Chang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16360" y="456732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stitutionalizing New Approache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5815800" y="90792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5815800" y="141840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5815800" y="192888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5815800" y="243972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5815800" y="295020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5815800" y="345024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5815800" y="397152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5815800" y="4503240"/>
              <a:ext cx="168840" cy="318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8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66080" y="124812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66080" y="175896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66080" y="226944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66080" y="278028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66080" y="329076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66080" y="380124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6080" y="431208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66080" y="4312080"/>
              <a:ext cx="1932840" cy="680400"/>
            </a:xfrm>
            <a:custGeom>
              <a:avLst/>
              <a:gdLst/>
              <a:ahLst/>
              <a:rect l="l" t="t" r="r" b="b"/>
              <a:pathLst>
                <a:path w="960" h="384">
                  <a:moveTo>
                    <a:pt x="0" y="288"/>
                  </a:moveTo>
                  <a:lnTo>
                    <a:pt x="0" y="384"/>
                  </a:lnTo>
                  <a:lnTo>
                    <a:pt x="960" y="384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00000" y="2133720"/>
            <a:ext cx="3382920" cy="2149200"/>
            <a:chOff x="900000" y="2133720"/>
            <a:chExt cx="3382920" cy="2149200"/>
          </a:xfrm>
        </p:grpSpPr>
        <p:sp>
          <p:nvSpPr>
            <p:cNvPr id="100" name=""/>
            <p:cNvSpPr/>
            <p:nvPr/>
          </p:nvSpPr>
          <p:spPr>
            <a:xfrm flipH="1">
              <a:off x="1368720" y="2897640"/>
              <a:ext cx="844560" cy="13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68720" y="4282920"/>
              <a:ext cx="168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213280" y="2897640"/>
              <a:ext cx="844560" cy="13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000" y="3948840"/>
              <a:ext cx="117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4040" y="3948840"/>
              <a:ext cx="11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06880" y="2252880"/>
              <a:ext cx="609480" cy="50148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624" y="72"/>
                  </a:moveTo>
                  <a:cubicBezTo>
                    <a:pt x="484" y="36"/>
                    <a:pt x="344" y="0"/>
                    <a:pt x="240" y="72"/>
                  </a:cubicBezTo>
                  <a:cubicBezTo>
                    <a:pt x="136" y="144"/>
                    <a:pt x="40" y="432"/>
                    <a:pt x="0" y="50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7040" y="2133720"/>
              <a:ext cx="515880" cy="62064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0" y="0"/>
                  </a:moveTo>
                  <a:cubicBezTo>
                    <a:pt x="76" y="20"/>
                    <a:pt x="152" y="40"/>
                    <a:pt x="240" y="144"/>
                  </a:cubicBezTo>
                  <a:cubicBezTo>
                    <a:pt x="328" y="248"/>
                    <a:pt x="488" y="544"/>
                    <a:pt x="528" y="62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13280" y="2993400"/>
              <a:ext cx="10080" cy="9133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245400" y="4139640"/>
              <a:ext cx="374760" cy="47520"/>
              <a:chOff x="3245400" y="4139640"/>
              <a:chExt cx="374760" cy="4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3245400" y="413964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45400" y="418716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245400" y="3709800"/>
              <a:ext cx="374760" cy="46800"/>
              <a:chOff x="3245400" y="3709800"/>
              <a:chExt cx="374760" cy="46800"/>
            </a:xfrm>
          </p:grpSpPr>
          <p:sp>
            <p:nvSpPr>
              <p:cNvPr id="112" name=""/>
              <p:cNvSpPr/>
              <p:nvPr/>
            </p:nvSpPr>
            <p:spPr>
              <a:xfrm>
                <a:off x="3245400" y="370980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5400" y="375660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>
              <a:off x="2448000" y="2515680"/>
              <a:ext cx="570240" cy="175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1. Strategy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2963520" y="3246840"/>
              <a:ext cx="528480" cy="176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2. Change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3620520" y="3757320"/>
              <a:ext cx="662400" cy="346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3. Ethical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Boundarie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48360" y="1844640"/>
            <a:ext cx="2973240" cy="2933280"/>
            <a:chOff x="5148360" y="1844640"/>
            <a:chExt cx="2973240" cy="2933280"/>
          </a:xfrm>
        </p:grpSpPr>
        <p:grpSp>
          <p:nvGrpSpPr>
            <p:cNvPr id="118" name=""/>
            <p:cNvGrpSpPr/>
            <p:nvPr/>
          </p:nvGrpSpPr>
          <p:grpSpPr>
            <a:xfrm>
              <a:off x="5472720" y="2273040"/>
              <a:ext cx="182880" cy="591840"/>
              <a:chOff x="5472720" y="2273040"/>
              <a:chExt cx="182880" cy="591840"/>
            </a:xfrm>
          </p:grpSpPr>
          <p:sp>
            <p:nvSpPr>
              <p:cNvPr id="119" name=""/>
              <p:cNvSpPr/>
              <p:nvPr/>
            </p:nvSpPr>
            <p:spPr>
              <a:xfrm>
                <a:off x="5502960" y="2273040"/>
                <a:ext cx="122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64160" y="240444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472720" y="26676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5564160" y="26676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72720" y="253584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792760" y="2195640"/>
              <a:ext cx="183240" cy="592200"/>
              <a:chOff x="5792760" y="2195640"/>
              <a:chExt cx="183240" cy="592200"/>
            </a:xfrm>
          </p:grpSpPr>
          <p:sp>
            <p:nvSpPr>
              <p:cNvPr id="125" name=""/>
              <p:cNvSpPr/>
              <p:nvPr/>
            </p:nvSpPr>
            <p:spPr>
              <a:xfrm>
                <a:off x="5823000" y="2195640"/>
                <a:ext cx="12204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84200" y="2327400"/>
                <a:ext cx="0" cy="2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5792760" y="259056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5884200" y="259056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2760" y="2458800"/>
                <a:ext cx="1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563440" y="2280240"/>
              <a:ext cx="274680" cy="761040"/>
              <a:chOff x="5563440" y="2280240"/>
              <a:chExt cx="274680" cy="761040"/>
            </a:xfrm>
          </p:grpSpPr>
          <p:sp>
            <p:nvSpPr>
              <p:cNvPr id="131" name=""/>
              <p:cNvSpPr/>
              <p:nvPr/>
            </p:nvSpPr>
            <p:spPr>
              <a:xfrm>
                <a:off x="5608800" y="2280240"/>
                <a:ext cx="183240" cy="16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00600" y="244944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563440" y="2787480"/>
                <a:ext cx="13716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5700240" y="2787480"/>
                <a:ext cx="13716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63440" y="261864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14400" y="1844640"/>
              <a:ext cx="637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5391360" y="3051720"/>
              <a:ext cx="544680" cy="205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Etho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01120" y="2606760"/>
              <a:ext cx="274680" cy="21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01120" y="3071880"/>
              <a:ext cx="3204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908400" y="2737440"/>
              <a:ext cx="30348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984000" y="3060360"/>
              <a:ext cx="22788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805360" y="3763440"/>
              <a:ext cx="183240" cy="591840"/>
              <a:chOff x="5805360" y="3763440"/>
              <a:chExt cx="183240" cy="591840"/>
            </a:xfrm>
          </p:grpSpPr>
          <p:sp>
            <p:nvSpPr>
              <p:cNvPr id="143" name=""/>
              <p:cNvSpPr/>
              <p:nvPr/>
            </p:nvSpPr>
            <p:spPr>
              <a:xfrm>
                <a:off x="5835600" y="3763440"/>
                <a:ext cx="122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96800" y="389484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5805360" y="41580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5896800" y="41580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05360" y="4026240"/>
                <a:ext cx="1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126840" y="3637080"/>
              <a:ext cx="182160" cy="590760"/>
              <a:chOff x="6126840" y="3637080"/>
              <a:chExt cx="182160" cy="590760"/>
            </a:xfrm>
          </p:grpSpPr>
          <p:sp>
            <p:nvSpPr>
              <p:cNvPr id="149" name=""/>
              <p:cNvSpPr/>
              <p:nvPr/>
            </p:nvSpPr>
            <p:spPr>
              <a:xfrm>
                <a:off x="6157080" y="3637080"/>
                <a:ext cx="12132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17920" y="3768480"/>
                <a:ext cx="0" cy="26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6126840" y="4030920"/>
                <a:ext cx="9108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6217560" y="4030920"/>
                <a:ext cx="9108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26840" y="3899520"/>
                <a:ext cx="18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922360" y="3701880"/>
              <a:ext cx="275040" cy="761040"/>
              <a:chOff x="5922360" y="3701880"/>
              <a:chExt cx="275040" cy="761040"/>
            </a:xfrm>
          </p:grpSpPr>
          <p:sp>
            <p:nvSpPr>
              <p:cNvPr id="155" name=""/>
              <p:cNvSpPr/>
              <p:nvPr/>
            </p:nvSpPr>
            <p:spPr>
              <a:xfrm>
                <a:off x="5967720" y="3701880"/>
                <a:ext cx="183240" cy="16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59880" y="387108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5922360" y="4209120"/>
                <a:ext cx="1375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6059880" y="4209120"/>
                <a:ext cx="1375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2360" y="4040280"/>
                <a:ext cx="27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309000" y="4101840"/>
              <a:ext cx="323280" cy="8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32280" y="4035240"/>
              <a:ext cx="18288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55440" y="4228200"/>
              <a:ext cx="627480" cy="294480"/>
            </a:xfrm>
            <a:custGeom>
              <a:avLst/>
              <a:gdLst/>
              <a:ahLst/>
              <a:rect l="l" t="t" r="r" b="b"/>
              <a:pathLst>
                <a:path w="655" h="334">
                  <a:moveTo>
                    <a:pt x="322" y="0"/>
                  </a:moveTo>
                  <a:cubicBezTo>
                    <a:pt x="368" y="40"/>
                    <a:pt x="655" y="197"/>
                    <a:pt x="601" y="253"/>
                  </a:cubicBezTo>
                  <a:cubicBezTo>
                    <a:pt x="547" y="309"/>
                    <a:pt x="125" y="317"/>
                    <a:pt x="0" y="33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91360" y="4284720"/>
              <a:ext cx="1739160" cy="237960"/>
            </a:xfrm>
            <a:custGeom>
              <a:avLst/>
              <a:gdLst/>
              <a:ahLst/>
              <a:rect l="l" t="t" r="r" b="b"/>
              <a:pathLst>
                <a:path w="1821" h="270">
                  <a:moveTo>
                    <a:pt x="1021" y="270"/>
                  </a:moveTo>
                  <a:cubicBezTo>
                    <a:pt x="875" y="253"/>
                    <a:pt x="0" y="211"/>
                    <a:pt x="133" y="166"/>
                  </a:cubicBezTo>
                  <a:cubicBezTo>
                    <a:pt x="266" y="121"/>
                    <a:pt x="1540" y="27"/>
                    <a:pt x="182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770800" y="4539960"/>
              <a:ext cx="854640" cy="237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Change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301440" y="3636720"/>
              <a:ext cx="274680" cy="210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508720" y="3767400"/>
              <a:ext cx="303480" cy="1936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583960" y="4090680"/>
              <a:ext cx="227880" cy="1936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8360" y="2309400"/>
              <a:ext cx="2286720" cy="2012040"/>
            </a:xfrm>
            <a:custGeom>
              <a:avLst/>
              <a:gdLst/>
              <a:ahLst/>
              <a:rect l="l" t="t" r="r" b="b"/>
              <a:pathLst>
                <a:path w="3601" h="3169">
                  <a:moveTo>
                    <a:pt x="1370" y="390"/>
                  </a:moveTo>
                  <a:cubicBezTo>
                    <a:pt x="1438" y="374"/>
                    <a:pt x="1586" y="295"/>
                    <a:pt x="1771" y="296"/>
                  </a:cubicBezTo>
                  <a:cubicBezTo>
                    <a:pt x="1957" y="297"/>
                    <a:pt x="2230" y="307"/>
                    <a:pt x="2483" y="399"/>
                  </a:cubicBezTo>
                  <a:cubicBezTo>
                    <a:pt x="2735" y="492"/>
                    <a:pt x="3100" y="640"/>
                    <a:pt x="3283" y="849"/>
                  </a:cubicBezTo>
                  <a:cubicBezTo>
                    <a:pt x="3466" y="1058"/>
                    <a:pt x="3571" y="1377"/>
                    <a:pt x="3587" y="1646"/>
                  </a:cubicBezTo>
                  <a:cubicBezTo>
                    <a:pt x="3601" y="1917"/>
                    <a:pt x="3519" y="2245"/>
                    <a:pt x="3368" y="2466"/>
                  </a:cubicBezTo>
                  <a:cubicBezTo>
                    <a:pt x="3216" y="2688"/>
                    <a:pt x="2944" y="2859"/>
                    <a:pt x="2677" y="2976"/>
                  </a:cubicBezTo>
                  <a:cubicBezTo>
                    <a:pt x="2409" y="3092"/>
                    <a:pt x="2064" y="3169"/>
                    <a:pt x="1767" y="3168"/>
                  </a:cubicBezTo>
                  <a:cubicBezTo>
                    <a:pt x="1470" y="3167"/>
                    <a:pt x="1160" y="3131"/>
                    <a:pt x="892" y="2970"/>
                  </a:cubicBezTo>
                  <a:cubicBezTo>
                    <a:pt x="624" y="2809"/>
                    <a:pt x="292" y="2497"/>
                    <a:pt x="157" y="2205"/>
                  </a:cubicBezTo>
                  <a:cubicBezTo>
                    <a:pt x="22" y="1913"/>
                    <a:pt x="0" y="1510"/>
                    <a:pt x="82" y="1215"/>
                  </a:cubicBezTo>
                  <a:cubicBezTo>
                    <a:pt x="164" y="920"/>
                    <a:pt x="365" y="637"/>
                    <a:pt x="652" y="435"/>
                  </a:cubicBezTo>
                  <a:cubicBezTo>
                    <a:pt x="939" y="233"/>
                    <a:pt x="1564" y="91"/>
                    <a:pt x="180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7199640" y="3447720"/>
              <a:ext cx="921960" cy="237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Strategy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287120" y="2686320"/>
              <a:ext cx="275400" cy="760680"/>
              <a:chOff x="7287120" y="2686320"/>
              <a:chExt cx="275400" cy="760680"/>
            </a:xfrm>
          </p:grpSpPr>
          <p:sp>
            <p:nvSpPr>
              <p:cNvPr id="171" name=""/>
              <p:cNvSpPr/>
              <p:nvPr/>
            </p:nvSpPr>
            <p:spPr>
              <a:xfrm>
                <a:off x="7332840" y="2686320"/>
                <a:ext cx="183600" cy="16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24640" y="285552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287120" y="3193560"/>
                <a:ext cx="13752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7424640" y="3193560"/>
                <a:ext cx="13752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87120" y="3024360"/>
                <a:ext cx="27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518240" y="2607120"/>
              <a:ext cx="182880" cy="591840"/>
              <a:chOff x="7518240" y="2607120"/>
              <a:chExt cx="182880" cy="591840"/>
            </a:xfrm>
          </p:grpSpPr>
          <p:sp>
            <p:nvSpPr>
              <p:cNvPr id="177" name=""/>
              <p:cNvSpPr/>
              <p:nvPr/>
            </p:nvSpPr>
            <p:spPr>
              <a:xfrm>
                <a:off x="7548480" y="2607120"/>
                <a:ext cx="122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09680" y="273852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7518240" y="300168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7609680" y="300168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18240" y="286992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160760" y="2766600"/>
              <a:ext cx="6382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197480" y="2734200"/>
              <a:ext cx="183600" cy="592200"/>
              <a:chOff x="7197480" y="2734200"/>
              <a:chExt cx="183600" cy="592200"/>
            </a:xfrm>
          </p:grpSpPr>
          <p:sp>
            <p:nvSpPr>
              <p:cNvPr id="184" name=""/>
              <p:cNvSpPr/>
              <p:nvPr/>
            </p:nvSpPr>
            <p:spPr>
              <a:xfrm>
                <a:off x="7227720" y="2734200"/>
                <a:ext cx="12240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89280" y="2865600"/>
                <a:ext cx="0" cy="2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197480" y="3129120"/>
                <a:ext cx="9180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7288920" y="3129120"/>
                <a:ext cx="9180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97480" y="29973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545472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oduction to Part II Extra Fig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From the conventional creation of strategy to ReCreating Strateg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028000" y="2276640"/>
            <a:ext cx="43164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443640" y="621360"/>
            <a:ext cx="237636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.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incremental development of conventional change management frameworks since 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Comparative table developed by the author. For details of the individual authors of each approach described here see the biographical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539640" y="404640"/>
            <a:ext cx="5303880" cy="5761080"/>
            <a:chOff x="539640" y="404640"/>
            <a:chExt cx="5303880" cy="5761080"/>
          </a:xfrm>
        </p:grpSpPr>
        <p:sp>
          <p:nvSpPr>
            <p:cNvPr id="660" name=""/>
            <p:cNvSpPr/>
            <p:nvPr/>
          </p:nvSpPr>
          <p:spPr>
            <a:xfrm>
              <a:off x="63108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tabl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ense o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urgenc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7116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uid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al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1124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eate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5132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comm-unic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91400" y="770400"/>
              <a:ext cx="6400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pow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thers to a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2328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plan sh-ort term wi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6336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consolid-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03440" y="770400"/>
              <a:ext cx="6400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nstitution-alize the n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11240" y="770400"/>
              <a:ext cx="0" cy="530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71920" y="770400"/>
              <a:ext cx="0" cy="530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3960" y="5708520"/>
              <a:ext cx="109728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FREE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2760" y="5708520"/>
              <a:ext cx="109728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71920" y="5708520"/>
              <a:ext cx="109728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E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911240" y="589140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40040" y="589140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7972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1980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5988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9996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3148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7192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1200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1080" y="177624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cognize need for revita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11240" y="1776240"/>
              <a:ext cx="64008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eate a new v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25640" y="1593360"/>
              <a:ext cx="73152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bilize commi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48600" y="1959120"/>
              <a:ext cx="64008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i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71920" y="1684800"/>
              <a:ext cx="10058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titutionalizing change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social archite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new beginning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45480" y="195912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51320" y="2050560"/>
              <a:ext cx="10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51320" y="18676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89040" y="214200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31080" y="2690640"/>
              <a:ext cx="64008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uctured lear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bora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62600" y="2690640"/>
              <a:ext cx="64008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am and inter-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uild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71160" y="29649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94120" y="2782080"/>
              <a:ext cx="10058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oal set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or the 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65720" y="278208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oal implemen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46240" y="2690640"/>
              <a:ext cx="91440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tabilization of changes/monitor-ing progr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2680" y="29649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99960" y="29649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80480" y="29649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1080" y="3696480"/>
              <a:ext cx="73152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ess need for change/ contact change ag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11240" y="3787920"/>
              <a:ext cx="5486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dentify 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1080" y="4702680"/>
              <a:ext cx="548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velop need for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42760" y="3696480"/>
              <a:ext cx="10058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begin diagno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present finding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develop plan for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31480" y="3696480"/>
              <a:ext cx="5486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titu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nn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54800" y="3696480"/>
              <a:ext cx="82296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valuate intervention against 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71160" y="4702680"/>
              <a:ext cx="640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establish change re-lationshi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25640" y="4702680"/>
              <a:ext cx="73152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ork toward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71920" y="4702680"/>
              <a:ext cx="5486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abilize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12000" y="4702680"/>
              <a:ext cx="731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hieve terminal relationshi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0560" y="48855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79720" y="48855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397080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80480" y="39708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48600" y="397080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62600" y="3970800"/>
              <a:ext cx="54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11240" y="4885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57160" y="4885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9640" y="5434200"/>
              <a:ext cx="10058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Lewin (1951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640" y="4428360"/>
              <a:ext cx="17373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Lippitt, Watson &amp; Westley (1958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9640" y="3422160"/>
              <a:ext cx="1920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lanned change model (1965-197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9640" y="2416320"/>
              <a:ext cx="13716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Blake &amp; Mouton (1964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9640" y="1410480"/>
              <a:ext cx="13716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Tichy &amp; Devanna(1990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9640" y="404640"/>
              <a:ext cx="10058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Kotter (1995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57160" y="17762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95280" y="5319360"/>
            <a:ext cx="741672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Kleisthenes’ reconfiguration of At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‘Toward Demokratia – Myth and the Management of Change in Ancient Athens’, by S. Cummings and J. Brocklesby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Journal of Organizational Change Managem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(vol. 10/1, 1997), MCB University Press, © S. Cummings. Note – evidence suggests that 20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mbined to constitute the Leontis tribe, however only the whereabouts of 15 of these have been ascer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42418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2771640" y="1628640"/>
            <a:ext cx="4105440" cy="3455640"/>
            <a:chOff x="2771640" y="1628640"/>
            <a:chExt cx="4105440" cy="3455640"/>
          </a:xfrm>
        </p:grpSpPr>
        <p:sp>
          <p:nvSpPr>
            <p:cNvPr id="730" name=""/>
            <p:cNvSpPr/>
            <p:nvPr/>
          </p:nvSpPr>
          <p:spPr>
            <a:xfrm>
              <a:off x="2905200" y="1918440"/>
              <a:ext cx="2947680" cy="304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3842640" y="3224160"/>
              <a:ext cx="1186560" cy="45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change requires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continuity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3039840" y="1628640"/>
              <a:ext cx="1046160" cy="90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vision bringing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ast into the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resent toward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the future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5719320" y="2788920"/>
              <a:ext cx="1157760" cy="67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seeing future, 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resent and past 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as interconnected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2771640" y="4238280"/>
              <a:ext cx="126936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integrating with 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material and 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'mythic' dimensions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75520" y="2063880"/>
              <a:ext cx="857520" cy="13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4433400" y="3223800"/>
              <a:ext cx="141948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575520" y="3444840"/>
              <a:ext cx="85752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5280" y="5547960"/>
            <a:ext cx="74167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7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enerating Change - An alternative framework for considering change with continu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95280" y="545292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5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 organization diagrammed as knitting; an organization diagrammed as a tumbleweed/dodgems/raygun. Sources: see biographical notes for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2814840" cy="42480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39240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95280" y="545472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7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t’s drawing of Folkdevils from case box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5092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1692360" y="765000"/>
            <a:ext cx="5600160" cy="4457880"/>
            <a:chOff x="1692360" y="765000"/>
            <a:chExt cx="5600160" cy="4457880"/>
          </a:xfrm>
        </p:grpSpPr>
        <p:sp>
          <p:nvSpPr>
            <p:cNvPr id="751" name=""/>
            <p:cNvSpPr/>
            <p:nvPr/>
          </p:nvSpPr>
          <p:spPr>
            <a:xfrm>
              <a:off x="4206600" y="2479680"/>
              <a:ext cx="5713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49400" y="2365200"/>
              <a:ext cx="17143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092480" y="3394080"/>
              <a:ext cx="3427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78280" y="3394080"/>
              <a:ext cx="3427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3349440" y="2764800"/>
              <a:ext cx="571320" cy="228240"/>
            </a:xfrm>
            <a:custGeom>
              <a:avLst/>
              <a:gdLst>
                <a:gd name="textAreaLeft" fmla="*/ 125640 w 571320"/>
                <a:gd name="textAreaRight" fmla="*/ 445680 w 57132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321080" y="179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21080" y="1793520"/>
              <a:ext cx="342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892760" y="1793520"/>
              <a:ext cx="342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63880" y="145080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78280" y="145080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21000" y="17935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06600" y="17935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06480" y="1107720"/>
              <a:ext cx="342720" cy="2857320"/>
            </a:xfrm>
            <a:prstGeom prst="parallelogram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0600" y="3965400"/>
              <a:ext cx="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806120" y="4994280"/>
              <a:ext cx="114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20600" y="4994280"/>
              <a:ext cx="114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63680" y="1679400"/>
              <a:ext cx="114264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263680" y="3165120"/>
              <a:ext cx="1142640" cy="571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378480" y="2479680"/>
              <a:ext cx="228240" cy="799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49880" y="2822400"/>
              <a:ext cx="799920" cy="228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6149880" y="2707560"/>
              <a:ext cx="914400" cy="22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21560" y="2479680"/>
              <a:ext cx="228240" cy="685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92600" y="225072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49800" y="24796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1560" y="29368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64360" y="305100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35400" y="270792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5578200" y="2936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5578200" y="2479680"/>
              <a:ext cx="914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5577840" y="3165120"/>
              <a:ext cx="68580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06600" y="2365200"/>
              <a:ext cx="79992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92760" y="2593800"/>
              <a:ext cx="57132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&amp;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49400" y="2593800"/>
              <a:ext cx="799920" cy="571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p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49400" y="2936880"/>
              <a:ext cx="1714320" cy="342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munic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21000" y="4194000"/>
              <a:ext cx="799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overnment fun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406680" y="419400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rivat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un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692360" y="52228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49680" y="270792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92280" y="2707920"/>
              <a:ext cx="799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92360" y="765000"/>
              <a:ext cx="2400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rojection of images of national ident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035080" y="3508200"/>
              <a:ext cx="4686120" cy="1485720"/>
            </a:xfrm>
            <a:custGeom>
              <a:avLst/>
              <a:gdLst/>
              <a:ahLst/>
              <a:rect l="l" t="t" r="r" b="b"/>
              <a:pathLst>
                <a:path w="7380" h="2340">
                  <a:moveTo>
                    <a:pt x="0" y="720"/>
                  </a:moveTo>
                  <a:lnTo>
                    <a:pt x="0" y="2340"/>
                  </a:lnTo>
                  <a:lnTo>
                    <a:pt x="7380" y="2340"/>
                  </a:lnTo>
                  <a:lnTo>
                    <a:pt x="73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321080" y="1107720"/>
              <a:ext cx="79992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xhibi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3978360" y="4308120"/>
              <a:ext cx="2282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006880" y="44226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21080" y="3279600"/>
              <a:ext cx="571320" cy="228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n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5280" y="5727600"/>
            <a:ext cx="7416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7 Extra Figur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rganigraph of a national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Cummings_Images%20of%20Strategy_size2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1444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 III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ized maps of Ottakar’s stores – contrast these with figure 2.5 (from case 3, pg. 3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744720" cy="30938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3130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5180400"/>
            <a:ext cx="74167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leading textbook’s model of ethical decision-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harles W.L. Hill and Gareth R. Jones, ‘Strategic Management: An Integrated Approach’, Fourth Edition. Copyright © by Houghton Mifflin Company. Reprint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107040" y="2322360"/>
            <a:ext cx="1050840" cy="14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05200" y="2292480"/>
            <a:ext cx="1051200" cy="14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01920" y="2292480"/>
            <a:ext cx="1052640" cy="14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0080" y="2292480"/>
            <a:ext cx="1052640" cy="14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57320" y="2254320"/>
            <a:ext cx="10018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valuate deci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m ethic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poi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y affe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kehold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re right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kehold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iolated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9800" y="2266920"/>
            <a:ext cx="10220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valuate deci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m ethic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point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contex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f mor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incipl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2276640"/>
            <a:ext cx="89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ablish mo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4560" y="2276640"/>
            <a:ext cx="97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gage in eth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ehavio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2720" y="2679840"/>
            <a:ext cx="525600" cy="276120"/>
          </a:xfrm>
          <a:prstGeom prst="rightArrow">
            <a:avLst>
              <a:gd name="adj1" fmla="val 50000"/>
              <a:gd name="adj2" fmla="val 4758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4560" y="2679840"/>
            <a:ext cx="525240" cy="276120"/>
          </a:xfrm>
          <a:prstGeom prst="rightArrow">
            <a:avLst>
              <a:gd name="adj1" fmla="val 50000"/>
              <a:gd name="adj2" fmla="val 4755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56400" y="2679840"/>
            <a:ext cx="525240" cy="276120"/>
          </a:xfrm>
          <a:prstGeom prst="rightArrow">
            <a:avLst>
              <a:gd name="adj1" fmla="val 50000"/>
              <a:gd name="adj2" fmla="val 4755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0" y="592200"/>
            <a:ext cx="1065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5840" tIns="46800" bIns="0" anchor="ctr">
            <a:spAutoFit/>
          </a:bodyPr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981720"/>
            <a:ext cx="5688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584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1263240"/>
            <a:ext cx="5976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Unimaginative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ity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Dishonesty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Pett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Flippancy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Duty-b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Blasé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Slap-dash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ofessionalism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Inflex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Individualism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Teamwork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Group-th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Boring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umour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Overfamilia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 = tend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2878920"/>
            <a:ext cx="50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571356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5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istotle’s thinking was applied to “Virtue Finance” to develop a clearer understanding of its particular et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5316480"/>
            <a:ext cx="7416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5.2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circle of corporate eth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after A. Campbell and S. Yeung’s ‘Ashridge Mission Model’ (‘Ashridge Mission Model’ used with permission of the autho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2411280" y="1268280"/>
            <a:ext cx="4479840" cy="3668760"/>
            <a:chOff x="2411280" y="1268280"/>
            <a:chExt cx="4479840" cy="3668760"/>
          </a:xfrm>
        </p:grpSpPr>
        <p:sp>
          <p:nvSpPr>
            <p:cNvPr id="219" name=""/>
            <p:cNvSpPr/>
            <p:nvPr/>
          </p:nvSpPr>
          <p:spPr>
            <a:xfrm>
              <a:off x="2776680" y="1371600"/>
              <a:ext cx="3748680" cy="356544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48280" y="2742840"/>
              <a:ext cx="914040" cy="91404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 rot="5400000">
              <a:off x="4132080" y="3124440"/>
              <a:ext cx="914040" cy="15084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urier New"/>
                </a:rPr>
                <a:t>etho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  <a:ea typeface="Courier Ne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05480" y="2194560"/>
              <a:ext cx="0" cy="2010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959560" y="1268280"/>
              <a:ext cx="1164960" cy="286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community</a:t>
              </a:r>
              <a:endPara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5320" y="2377080"/>
              <a:ext cx="1005480" cy="2010960"/>
            </a:xfrm>
            <a:custGeom>
              <a:avLst/>
              <a:gdLst>
                <a:gd name="textAreaLeft" fmla="*/ 134640 w 1005480"/>
                <a:gd name="textAreaRight" fmla="*/ 870840 w 1005480"/>
                <a:gd name="textAreaTop" fmla="*/ 351720 h 2010960"/>
                <a:gd name="textAreaBottom" fmla="*/ 1458000 h 20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970520" y="2152080"/>
              <a:ext cx="1005480" cy="2010960"/>
            </a:xfrm>
            <a:custGeom>
              <a:avLst/>
              <a:gdLst>
                <a:gd name="textAreaLeft" fmla="*/ 134640 w 1005480"/>
                <a:gd name="textAreaRight" fmla="*/ 870840 w 1005480"/>
                <a:gd name="textAreaTop" fmla="*/ 352080 h 2010960"/>
                <a:gd name="textAreaBottom" fmla="*/ 1458360 h 20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9720" y="1600920"/>
              <a:ext cx="9140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00"/>
                  </a:solidFill>
                  <a:latin typeface="Tahoma"/>
                </a:rPr>
                <a:t>Telos</a:t>
              </a: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 or purp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9720" y="4205520"/>
              <a:ext cx="8226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11280" y="3022920"/>
              <a:ext cx="8226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77080" y="3022920"/>
              <a:ext cx="914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99640" y="3234960"/>
              <a:ext cx="2102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403280" y="1916280"/>
            <a:ext cx="5616720" cy="2519280"/>
            <a:chOff x="1403280" y="1916280"/>
            <a:chExt cx="5616720" cy="2519280"/>
          </a:xfrm>
        </p:grpSpPr>
        <p:sp>
          <p:nvSpPr>
            <p:cNvPr id="232" name=""/>
            <p:cNvSpPr/>
            <p:nvPr/>
          </p:nvSpPr>
          <p:spPr>
            <a:xfrm>
              <a:off x="4859640" y="1916280"/>
              <a:ext cx="4496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63280" y="2064240"/>
              <a:ext cx="45972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63280" y="3546360"/>
              <a:ext cx="4496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94640" y="2064240"/>
              <a:ext cx="20253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Rules/code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47280" y="2064240"/>
              <a:ext cx="22802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How do we kn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ourselve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03280" y="3694680"/>
              <a:ext cx="30434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How are w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different/memorabl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003640" y="2360880"/>
              <a:ext cx="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995640" y="2360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5640" y="2360880"/>
              <a:ext cx="0" cy="14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95640" y="384264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435640" y="2805120"/>
              <a:ext cx="0" cy="103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59640" y="3101760"/>
              <a:ext cx="21600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Material cor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27640" y="2657160"/>
              <a:ext cx="576000" cy="59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83640" y="325008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59640" y="3101760"/>
              <a:ext cx="4118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5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presentation of Delueze’s Four Folds of Subjectification (pg. 2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780000" y="192096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2205000"/>
            <a:ext cx="2062080" cy="135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16600" y="2347920"/>
            <a:ext cx="68724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92240" y="2703600"/>
            <a:ext cx="12366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2560" y="3986280"/>
            <a:ext cx="12366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54160" y="2276640"/>
            <a:ext cx="6876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16600" y="3559320"/>
            <a:ext cx="6872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16440" y="3559320"/>
            <a:ext cx="6872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54160" y="2989440"/>
            <a:ext cx="6876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3559320"/>
            <a:ext cx="233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16440" y="2200320"/>
            <a:ext cx="1800" cy="1363680"/>
          </a:xfrm>
          <a:custGeom>
            <a:avLst/>
            <a:gdLst/>
            <a:ahLst/>
            <a:rect l="l" t="t" r="r" b="b"/>
            <a:pathLst>
              <a:path w="1" h="1380">
                <a:moveTo>
                  <a:pt x="0" y="0"/>
                </a:moveTo>
                <a:lnTo>
                  <a:pt x="0" y="138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84680" y="2882880"/>
            <a:ext cx="2062080" cy="360"/>
          </a:xfrm>
          <a:custGeom>
            <a:avLst/>
            <a:gdLst/>
            <a:ahLst/>
            <a:rect l="l" t="t" r="r" b="b"/>
            <a:pathLst>
              <a:path w="2160" h="1">
                <a:moveTo>
                  <a:pt x="0" y="0"/>
                </a:moveTo>
                <a:lnTo>
                  <a:pt x="216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5181840"/>
            <a:ext cx="74167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away from “what a good strategy is?” to looking at “what a good strategy does?” – a good strategy can come from any source so long as this source provides orientation and ani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5316480"/>
            <a:ext cx="7416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6.1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soff’s development of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H.I. Ansoff, ‘figure 1’, from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enguin, Harmondsworth, 1969). Levels superimp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4737240" cy="2184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132000" y="3986280"/>
            <a:ext cx="26514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132000" y="1700280"/>
            <a:ext cx="137160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03600" y="1700280"/>
            <a:ext cx="127980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4600" y="2614680"/>
            <a:ext cx="1096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97400" y="3346560"/>
            <a:ext cx="1920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535040" y="1897200"/>
            <a:ext cx="5371920" cy="2804760"/>
            <a:chOff x="1535040" y="1897200"/>
            <a:chExt cx="5371920" cy="2804760"/>
          </a:xfrm>
        </p:grpSpPr>
        <p:sp>
          <p:nvSpPr>
            <p:cNvPr id="275" name=""/>
            <p:cNvSpPr/>
            <p:nvPr/>
          </p:nvSpPr>
          <p:spPr>
            <a:xfrm>
              <a:off x="3821040" y="266508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i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83600" y="4589280"/>
              <a:ext cx="265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883600" y="2302560"/>
              <a:ext cx="1371600" cy="228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55560" y="2302920"/>
              <a:ext cx="1280160" cy="228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06560" y="3217320"/>
              <a:ext cx="109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9360" y="3949200"/>
              <a:ext cx="192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78040" y="213516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9840" y="189720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Areas of concer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49840" y="248760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Broad issues and strate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49840" y="319284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trategy implementation and poli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49840" y="413064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Operations and procedu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49160" y="195984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hasis on 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5040" y="418932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hasis on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21040" y="407484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al deci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1040" y="336996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i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’s Managerial Triangle – a popular framework from the late 196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22:06:39Z</dcterms:created>
  <dc:creator>cumminst</dc:creator>
  <dc:description/>
  <dc:language>en-US</dc:language>
  <cp:lastModifiedBy>cumminst</cp:lastModifiedBy>
  <dcterms:modified xsi:type="dcterms:W3CDTF">2005-05-23T03:16:08Z</dcterms:modified>
  <cp:revision>17</cp:revision>
  <dc:subject/>
  <dc:title>Slide 1</dc:title>
</cp:coreProperties>
</file>