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2F6-72E7-4175-9CFA-96537A07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D6A-5A36-4AD9-8FF5-72FEEA4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28A-3D6E-4B1A-A60C-928DF4F1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7C3-F49F-40BC-975D-BCF7F680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8A4-C037-4E43-847E-232485D3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BD1-7063-4F6B-91A2-E0A485AB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850-F35F-4E09-91DC-F942F17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A32-2881-43CA-BAAC-1E20401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443-A2EC-4500-8204-5725A15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BB2-F14B-4872-931D-68C4E33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035-DD57-4193-8230-E62A85C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C5B-01FE-4D59-A9F0-1CB9258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549B-B66D-4691-BE3B-3890B5C73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Figure 13.1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13.1.jp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13.2.jpg"/>
          <p:cNvPicPr/>
          <p:nvPr/>
        </p:nvPicPr>
        <p:blipFill>
          <a:blip r:embed="rId1"/>
          <a:stretch/>
        </p:blipFill>
        <p:spPr>
          <a:xfrm>
            <a:off x="29700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13.3.jpg"/>
          <p:cNvPicPr/>
          <p:nvPr/>
        </p:nvPicPr>
        <p:blipFill>
          <a:blip r:embed="rId1"/>
          <a:stretch/>
        </p:blipFill>
        <p:spPr>
          <a:xfrm>
            <a:off x="0" y="1146240"/>
            <a:ext cx="9144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44:53Z</dcterms:created>
  <dc:creator>conversion</dc:creator>
  <dc:description/>
  <dc:language>en-US</dc:language>
  <cp:lastModifiedBy>conversion</cp:lastModifiedBy>
  <dcterms:modified xsi:type="dcterms:W3CDTF">2016-04-26T05:45:14Z</dcterms:modified>
  <cp:revision>1</cp:revision>
  <dc:subject/>
  <dc:title>Slide 1</dc:title>
</cp:coreProperties>
</file>