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155-CDFD-4A0A-A897-0073A8B6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221-FBA7-4ACE-BCB1-3A3D9322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FD7-EA8C-41C5-9691-6144DFB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648-65E8-4710-B169-D17636B5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093-B0CD-4C11-A792-891D435E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7A8-04C7-464C-8CE3-648ADF37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3C0-8413-4F1C-920F-2FB44DEE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EDF-36BD-44F7-89AC-7EEDBE7D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66C-B62B-4F01-8E12-9ECD607E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A04-6407-43B6-9885-D79AAB52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7E2-66BA-4C0F-A2F7-9DD8CFA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9B9-D498-4269-8DC5-FD86CEE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9BB-F335-4325-9749-07A3D4B48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Table 16.1.jpg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16.2.jpg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16.3.jpg"/>
          <p:cNvPicPr/>
          <p:nvPr/>
        </p:nvPicPr>
        <p:blipFill>
          <a:blip r:embed="rId1"/>
          <a:stretch/>
        </p:blipFill>
        <p:spPr>
          <a:xfrm>
            <a:off x="0" y="1058760"/>
            <a:ext cx="91440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49:38Z</dcterms:created>
  <dc:creator>conversion</dc:creator>
  <dc:description/>
  <dc:language>en-US</dc:language>
  <cp:lastModifiedBy>conversion</cp:lastModifiedBy>
  <dcterms:modified xsi:type="dcterms:W3CDTF">2016-04-26T05:49:51Z</dcterms:modified>
  <cp:revision>1</cp:revision>
  <dc:subject/>
  <dc:title>Slide 1</dc:title>
</cp:coreProperties>
</file>