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113-8D9D-4541-9507-EA98C784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20F-B97A-4DDD-83B2-8835D65C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C0CE-314D-469F-ACD1-97B9191A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9E54-E84E-49CF-ADC9-49D53567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7BB-05F8-4518-A075-B1AA1E45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60D-6A8F-4851-88C6-0F2EEEEF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D392-6E85-4AE2-8083-410F95AE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81CF-4E9A-4601-B81F-585427AA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124-09B4-4BE1-B947-F3BA2225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53ED-6C55-4D1D-8688-3163E0F6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80B5-C3C5-43AB-AC0A-9A35E6B4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7A65-2FFA-4072-8B38-82014E31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66F6-A752-4890-8471-3F0CA4E88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sborne_Figure A.1.jpg"/>
          <p:cNvPicPr/>
          <p:nvPr/>
        </p:nvPicPr>
        <p:blipFill>
          <a:blip r:embed="rId1"/>
          <a:stretch/>
        </p:blipFill>
        <p:spPr>
          <a:xfrm>
            <a:off x="0" y="264960"/>
            <a:ext cx="9144000" cy="63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sborne_Table A.1.jpg"/>
          <p:cNvPicPr/>
          <p:nvPr/>
        </p:nvPicPr>
        <p:blipFill>
          <a:blip r:embed="rId1"/>
          <a:stretch/>
        </p:blipFill>
        <p:spPr>
          <a:xfrm>
            <a:off x="2306520" y="0"/>
            <a:ext cx="453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sborne_Table A.1(Continued).jpg"/>
          <p:cNvPicPr/>
          <p:nvPr/>
        </p:nvPicPr>
        <p:blipFill>
          <a:blip r:embed="rId1"/>
          <a:stretch/>
        </p:blipFill>
        <p:spPr>
          <a:xfrm>
            <a:off x="2297160" y="0"/>
            <a:ext cx="454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sborne_Table A.1(Continued 1).jpg"/>
          <p:cNvPicPr/>
          <p:nvPr/>
        </p:nvPicPr>
        <p:blipFill>
          <a:blip r:embed="rId1"/>
          <a:stretch/>
        </p:blipFill>
        <p:spPr>
          <a:xfrm>
            <a:off x="1911240" y="0"/>
            <a:ext cx="532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5:51:47Z</dcterms:created>
  <dc:creator>conversion</dc:creator>
  <dc:description/>
  <dc:language>en-US</dc:language>
  <cp:lastModifiedBy>conversion</cp:lastModifiedBy>
  <dcterms:modified xsi:type="dcterms:W3CDTF">2016-04-26T05:52:53Z</dcterms:modified>
  <cp:revision>1</cp:revision>
  <dc:subject/>
  <dc:title>Slide 1</dc:title>
</cp:coreProperties>
</file>