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9F8-A57B-4065-B79D-E6D3B694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7BE-ABAD-4BF5-A784-587AFBF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9F3-FA9A-4DA3-BD81-F28B407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C19-9183-4524-AF20-D86BCF78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400-C48A-4DD8-871B-3CFB2C02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5D8-44CE-4A2F-80F1-1F2CA12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38B-E2AE-4C5E-BAC2-860CEAD8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0F2-41AD-4A2C-BF5E-3092F63A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190-94EA-4C91-B3B1-6A7F5D1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735-469E-4BF9-90DE-F85E8EC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380-F50B-4432-A5C6-FA30DC0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8B9-71C5-4CE6-88AC-0535019C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0B94-23F3-4C9B-A2C8-0E85D7AB6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Table 18.1.jpg"/>
          <p:cNvPicPr/>
          <p:nvPr/>
        </p:nvPicPr>
        <p:blipFill>
          <a:blip r:embed="rId1"/>
          <a:stretch/>
        </p:blipFill>
        <p:spPr>
          <a:xfrm>
            <a:off x="1260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8.2.jpg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8.3.jpg"/>
          <p:cNvPicPr/>
          <p:nvPr/>
        </p:nvPicPr>
        <p:blipFill>
          <a:blip r:embed="rId1"/>
          <a:stretch/>
        </p:blipFill>
        <p:spPr>
          <a:xfrm>
            <a:off x="0" y="1014480"/>
            <a:ext cx="9144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8.4.jpg"/>
          <p:cNvPicPr/>
          <p:nvPr/>
        </p:nvPicPr>
        <p:blipFill>
          <a:blip r:embed="rId1"/>
          <a:stretch/>
        </p:blipFill>
        <p:spPr>
          <a:xfrm>
            <a:off x="0" y="1693800"/>
            <a:ext cx="91440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51:04Z</dcterms:created>
  <dc:creator>conversion</dc:creator>
  <dc:description/>
  <dc:language>en-US</dc:language>
  <cp:lastModifiedBy>conversion</cp:lastModifiedBy>
  <dcterms:modified xsi:type="dcterms:W3CDTF">2016-04-26T05:51:17Z</dcterms:modified>
  <cp:revision>1</cp:revision>
  <dc:subject/>
  <dc:title>Slide 1</dc:title>
</cp:coreProperties>
</file>