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0F7-AD25-4C97-8DB4-8268EE4B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310-28C5-4430-9BB0-C16FAB4F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2AA-4CED-4B17-9B18-EB9E5249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D68-A492-458E-BE7A-5171DE92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CA5-E9A6-4E12-9E6D-8CEE2511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1CF-66ED-4399-BDDE-900D43A5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793-2EE2-4CB4-B0D4-9454BF71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D3A-93A1-45A6-AFC1-660B3999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847-7B68-4EC2-83AE-82A992E4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F6E-3925-4F4A-82E5-588AE8A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7B6-250A-4800-A4D8-B54CC49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891-042F-4FE5-8C7E-2E2B006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C936-8B64-4160-BFDB-D41E18251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Osborne_Figure 1.1.jpg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Osborne_Figure 1.2.jpg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Osborne_Figure 1.3.jpg"/>
          <p:cNvPicPr/>
          <p:nvPr/>
        </p:nvPicPr>
        <p:blipFill>
          <a:blip r:embed="rId1"/>
          <a:stretch/>
        </p:blipFill>
        <p:spPr>
          <a:xfrm>
            <a:off x="227160" y="0"/>
            <a:ext cx="86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Osborne_Table 1.1.jpg"/>
          <p:cNvPicPr/>
          <p:nvPr/>
        </p:nvPicPr>
        <p:blipFill>
          <a:blip r:embed="rId1"/>
          <a:stretch/>
        </p:blipFill>
        <p:spPr>
          <a:xfrm>
            <a:off x="0" y="946080"/>
            <a:ext cx="91440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Osborne_Table 1.2.jpg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4:59:09Z</dcterms:created>
  <dc:creator>conversion</dc:creator>
  <dc:description/>
  <dc:language>en-US</dc:language>
  <cp:lastModifiedBy>conversion</cp:lastModifiedBy>
  <dcterms:modified xsi:type="dcterms:W3CDTF">2016-04-26T04:59:43Z</dcterms:modified>
  <cp:revision>1</cp:revision>
  <dc:subject/>
  <dc:title>Slide 1</dc:title>
</cp:coreProperties>
</file>